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</p:sldMasterIdLst>
  <p:sldIdLst>
    <p:sldId id="256" r:id="rId75"/>
    <p:sldId id="257" r:id="rId76"/>
    <p:sldId id="258" r:id="rId77"/>
    <p:sldId id="259" r:id="rId78"/>
    <p:sldId id="260" r:id="rId79"/>
    <p:sldId id="261" r:id="rId80"/>
    <p:sldId id="262" r:id="rId81"/>
    <p:sldId id="263" r:id="rId8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" Target="slides/slide1.xml"/><Relationship Id="rId76" Type="http://schemas.openxmlformats.org/officeDocument/2006/relationships/slide" Target="slides/slide2.xml"/><Relationship Id="rId77" Type="http://schemas.openxmlformats.org/officeDocument/2006/relationships/slide" Target="slides/slide3.xml"/><Relationship Id="rId78" Type="http://schemas.openxmlformats.org/officeDocument/2006/relationships/slide" Target="slides/slide4.xml"/><Relationship Id="rId79" Type="http://schemas.openxmlformats.org/officeDocument/2006/relationships/slide" Target="slides/slide5.xml"/><Relationship Id="rId80" Type="http://schemas.openxmlformats.org/officeDocument/2006/relationships/slide" Target="slides/slide6.xml"/><Relationship Id="rId81" Type="http://schemas.openxmlformats.org/officeDocument/2006/relationships/slide" Target="slides/slide7.xml"/><Relationship Id="rId82" Type="http://schemas.openxmlformats.org/officeDocument/2006/relationships/slide" Target="slides/slide8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CE6-9D1C-4D32-A7ED-9CFB863B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FBD-A1A1-46E8-AA04-AEDB1896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40118-3A40-4850-B2F1-E9720758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1ABB7-78C7-40ED-941B-13C7B8AC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A014F-F2F5-4FE2-898D-65C93D24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2973D-7D44-4A42-91CD-3EAA9C55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E7D6E-B918-4DF3-A33D-49C5AA04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03A4E-2EC0-41E8-B51B-EAEFCF46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1B2DE-4B0F-4758-BA32-1D40DF96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4ED4C-30CB-4EFE-A649-36D66F99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C8708-AE32-4AB7-A1FA-50C90D90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93BDE-DB5A-4C41-8DD9-B5B2012C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D1B-91D4-497F-BF54-7EDF6F60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6459D-429A-4949-B506-70101068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0B076-761C-4E32-A47B-A371D436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B5BC5-66AA-4F40-93FB-F059BA70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A6282-1422-466D-B6C3-4E848270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A5CA5-FB0D-4428-9CF0-FED80C81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FFFD5-4009-4B90-9A4F-E386F7A7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A1104-F44F-4AF1-B72B-766F1DF1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68767-F155-4140-8555-866E038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0FCE9-0315-4254-A4CF-1378EF7E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356C9-CC2F-460B-950F-A6296E1F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D9C-025D-47C2-8166-257E4CFD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E8B6C-E508-4502-B7A2-470DF201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9B00E-E81A-425E-B663-687FDDEC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FB826-1279-4173-82D0-003ECEB6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63F30-7477-4B15-B56B-E8667B74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11F9C-9B47-4589-A180-918F78E8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B45D0-87E3-40A8-8FD9-8119231C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CAC76-1812-484E-825E-2A3207DA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52180-2BA0-4916-B6BE-132466E7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7A267-1CA7-4772-9E6E-61C538B6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FD804-C3A1-4D22-BF68-ABC35D72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5FAE-6A0C-4996-8990-98578378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E2C38-A71B-44D2-8F85-FF7BEA51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6EE27-A7F8-498C-AF1A-6FB9D678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E828F-59A7-492C-BD34-526CBECE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0E156-DA0E-420E-90DA-2EE22F8A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9E257-0C70-4D05-9322-E530A43A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1C749-F818-44EE-B8B1-09CFA010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A9D45-5E29-4024-942B-B21F7C84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653C1-27D6-460F-9190-8A3AA572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0CDB0-7D12-4434-970D-BD316FC7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2CF11-F0A0-44E0-A58F-98D32343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CD1B-98B7-457D-9A9F-6B084438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3BDBB-9392-4E19-8FB4-22789AE8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C736D-ADC7-4D19-A9BE-5E8B04AE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30BD1-D386-44AE-AD8C-C24DA248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3DDBF-0973-428F-AA86-87F4813F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9CE7F-A393-47B0-ACC7-A149364B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80F89-2A52-4F99-8AB1-EA1DB75C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98AF2-CC6B-4696-B312-C13AB0B1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1E5EF-7097-4368-B51E-8BF57ACB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4CBDB-786A-450F-9053-2EFFF5D9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51A4B-76AE-4271-ADF3-1B303231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4586-8B2F-4A86-84B5-7A06649E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78593-9CBC-49C3-AEAB-84FC8B48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86D84-E1AA-4F25-AD6B-90FC558C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D583A-C53D-4418-A85E-6A967291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B8158-5B45-4AA5-8867-B7DA863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7F88F-629D-4A82-9791-205C1429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60873-B2BF-48C5-B05F-496B82BB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102F7-A49C-45E5-9C1C-21C48C62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C54E4-1B9A-4876-95D3-BD5F40D2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AB4AC-E387-4365-9728-A95C35B3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64B88-31DC-4B8F-B577-57E4C4C8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B68D-C4A5-4D5E-84ED-4FFA2AEE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C706D-AF59-400D-A1E1-3777D736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1190A-3D4F-4D0F-AB3B-CDD2290F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4EBD0-FDDF-45DF-856C-5BF1B2A5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3404D-B06D-43A3-A85C-B019C786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F31D6-AFB6-44B2-9990-0B00BCE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2FBA6-EDAB-4A35-8FEA-CE2DAD89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0F6BB-5AED-4D96-B6F8-CE8823E1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2DECB7-2E73-446E-BE1F-FE3B3AB9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15A6E-A6A9-4ABE-8636-BF758337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D2CD8-E195-4933-AA96-543560FE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1CAB-DB42-450D-A1F0-D28603FA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D4666-EDF3-410C-89CD-B6C70D35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8DDB9-0CDC-4D7C-A4F3-B17B9B9C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70A786-775C-4808-A52B-DBB30FAD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6322F-F343-4862-8FD8-ABF16FE8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B68D6-A388-4F06-B93D-DE0D580A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400D5E-7595-4C4F-9D81-FDAD84AF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9307B-80F3-4AEF-95B4-948F5B33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F5425-C9A8-4493-ADE7-8005E707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63ED8-AFEA-4731-BADB-613BB172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EA934-D290-49C6-BBB6-72F7C52B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1ABC-6DBC-43B7-B1D6-3F8E2FF4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4FB09-6E6B-4DC9-976C-04F12C0E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3B0DA-91D8-45A0-82A2-A63CA91D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AA02F-4F3D-4B8F-84FF-2329069F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8AE00-60F5-43CF-AACC-3C47288A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BCBFA-C747-4B41-9347-5CA26FE5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642EA-6642-47DC-9A3E-2002B607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7B673-F146-4E19-9ACB-B7EC4B88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E3E8F-20F3-4694-9E6D-91BFADF7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AA981-5A6B-4F9B-BADB-5D0A3C56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048A3-48A9-4726-B971-2D0B774C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5FC8-5E2F-4328-A69C-0E7D3689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6D981-BD8D-4B76-9D00-7EA38F25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A6168-C59F-4654-A3E8-7C005905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09E1FB-0BDF-4DE4-B9AA-0377531D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A6E71-6371-40D8-8B1F-B3732630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09570-E7C0-4D69-8D5E-595AB3F0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41D25-53E7-430E-8581-6663F106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CAE8A1-FD76-42BC-9145-4C13E114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187BD-A343-4CB7-9E15-1B529613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3A4EE-8DD6-4FFE-B02C-48C1C841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F5359-28C5-4852-8499-D0A07F8E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13B-5AC8-4B6C-85E2-0CEF321C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0BD2-C084-4EFC-99EC-76A9F8D3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42FA4-6615-439E-8DAF-940992B4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956E5-C157-4E52-ABE3-1B1FDBD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994B5-C7D6-40AF-B9FD-3B2FB675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B7955-6F1D-4440-BE2C-0D4F2B38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A4847F-CAC6-48C2-8C13-ADB1E8D9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3DB97D-19BA-4386-B283-A26FF353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E325A-4E2A-4F3E-AF5E-C7703B38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E2D9A5-034B-4947-A27F-72A638F6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A44C0-B949-43D0-A7F8-1FD23616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80300-DCFC-4367-94BB-261B68BC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AF62-8129-42A5-8B28-8822E369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7824A3-75D4-4D44-B469-0C99A24F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6A8B2-51BD-4296-9738-F5C25E99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B0B5EA-EF4E-4B01-AA5C-EF6007C5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8C4C4-84B3-4049-8509-50629F44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30F58-0858-4C5C-BD51-B0EA774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8CDBD5-5A1E-4DF9-91E2-7609E4EB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BD751-EE70-45AC-BE31-BE5370AC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5EAB7-5E65-452E-9180-C14A5644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11DD14-A4C1-48F7-826C-33E81021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D14E0-5201-43CD-934D-324D474C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567F-01B9-42B9-B75A-17150992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0C5E4-AE4A-4CF3-8504-0B245686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94A14E-DBCB-4C90-A535-66539F4B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145BE6-4A85-4416-9BB5-3F0F5378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DC427-2A01-485F-9402-6BA6EC5C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41A71-FCB4-4C47-AECD-9A56C2DA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B967C-595D-4F50-B7C6-F4750F9A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B018E-9FE5-4895-BF73-6CF7C0E7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70D8E-0F78-4691-88D4-82E0DE67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D3655-B2D7-4290-A23E-E5DF71D6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1BE03-EBDD-4EF8-843A-E71859CD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5F5C-4C1D-4876-B38B-096A8BF5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6FE52-6EDD-4DBE-ACEA-E54BF63B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44956-077D-4422-B6B4-0E3CB1DA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5B9B67-8963-42CA-83CA-E5B18D1B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D02B18-E7E4-4591-A49D-D079578E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4A3D9B-F67B-4512-AA48-53882BA0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E56DD0-5F26-42F1-8B98-8378C847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84910E-13AB-45F5-BD77-F5C3EC9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3F8AA-F3AD-489D-8F2B-BE0D2C6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94715-889A-4A1E-A0B1-12DC292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2D8DE-B63D-4CDC-87DC-5041B0A5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74F6-5A62-481A-BAA6-2A52B98C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B44C00-A30A-46B4-A686-755EF3F7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79C72B-07D4-46D5-A1FE-0C7A54F9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2E35FF-0933-4DEB-B5B0-EB2971F5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A7631A-798D-4A47-91B1-DDA17940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C851E-59E4-449D-BB81-73DE460B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E1498-5CDF-4D28-B8ED-CA2AA265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EE33A-C1AB-4B41-9E35-C9ABCFF0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947A5-956F-4615-ABC9-4C398FCE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B45E3-19BC-4D67-81D4-631970EF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54E63-5DB4-402F-BF1B-5CFF31C8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F6E8-8928-49E0-A756-7438C9AC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E9E572-CE0D-4937-9B82-DBD17C72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7E97D-30D7-4BD2-B885-43F12861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2DECB-F043-4C17-8B0B-62700275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E30CCA-3A2A-44D5-8F26-316707B7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F32F83-DEC1-4F19-A1A9-6E5D20E2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F64139-F426-43C0-8EA9-6D2F361E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3C3190-F5F7-4C74-9BEE-E2E8233A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50158C-1AB4-476D-BEAC-09427CB4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E5AC22-1CCC-4FBB-9B3B-12AD367E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EF2C39-17AE-48F6-9D08-5F030127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AE01-09DB-423A-B859-7BC562BA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784238-FD16-43A3-914A-95FCD8AB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3D9768-6B6D-481A-A62D-E9D4EAB9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EF2DB5-1D10-4C0A-B2B7-02DF8359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9AAB07-A543-4FB1-89AD-E3CF119C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4174B8-BC53-4A28-A294-82F6C2A3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55FEFF-D1FD-426D-8011-FDEFDF60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F38E3E-411C-4A30-B0C8-085DC91B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2F9967-DF24-4480-B803-D4F8AA31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F35F69-9251-4BEB-9DEB-7D58EB87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694006-BDFB-4D90-A8EB-ED4E737F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A99D8-F900-4506-9B4F-56B6E6F2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53FDE1-3318-47C9-9B3E-B99CA3C3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48A947-682F-43DE-974A-6E5661ED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B79CD9-E6EC-4F63-BFB6-711E8FC1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4B20D3-18E0-42F6-8D39-9C66380A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2E2EF4-2C1A-4BF0-9E90-8775D2E1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6B737C-9C28-4624-A6F5-BF60F624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872370-62A1-4250-B041-BF95AD4C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D602E8-EA05-4375-9803-7DA2A423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647C9B-BAFD-4007-977C-FFCBAB36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685D94-FDD0-41B8-B453-60DE0D37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3566-6278-45C7-82FD-352160BC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7A858A-2C98-4A2B-BE82-B092EC1F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0ADEDE-6FC6-400B-9EB7-E6BC1250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5CA7D6-EF60-4CCE-9E74-A9D2FA8E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32B1BD-E102-475E-BBF5-80F47C11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23ED48-A1FB-40EC-BD7A-E863D553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CA6FEB-2273-4F6A-8213-09E64366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9DEE13-C9D9-4052-88B2-B7B17D38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D371A1-072B-43AE-B8A2-730B3628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523C09-37D1-40EC-A328-EC34C936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81A52C-94CA-4E76-88D1-0C50C8EE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4109-53C6-4F6E-86AA-9D218C52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CD1894-56CB-48B3-A932-C1099861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19B283-5248-4723-9490-01306DA3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CF857A-86B1-49BB-A662-C15FDCEB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D485A9-F123-49AC-A0DA-FBE7BCBE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EB1DAC-ABE7-498A-BC4B-5C3AA2E6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019D35-C45B-4BEF-9C3C-1EE12025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E0A2E5-F967-4C24-9031-B9D46745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E5AB1A-1055-4BCE-B3FA-E3E589B4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980A65-C024-46A3-B360-5A81A783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2D96E0-6C7D-4CCD-B0D9-99151409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A94-813A-451D-AF86-0EE112E2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C083-9E29-4B85-9575-EBA296E7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FB1F49-FF92-4847-8B57-2233CC21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5844BA-5629-4509-AA73-DAEA2CC4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893F5C-7A69-4C78-9282-1B6C1C16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BDE938-F0E5-40AB-B315-38592131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9CFDEE-DCA8-489B-BB5A-09F5EA8F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B74648-E8B9-4D7A-AD83-1CBCFCD5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FBBDBD-B6E2-44EB-9837-F2E1AFC2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AC6195-9ED2-4970-BC03-A89E322C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4A8F5B-5757-4C5D-9F68-C984289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3E9231-8156-4185-B837-CF5452A6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054B6-8314-4F15-958A-75B47A0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A6CA43-B5C6-4092-8640-EF55D365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471E27-B113-43A1-A6F2-D1B5CB28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A273E6-6A83-41E4-B27F-8F38F13C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7A0F20-E767-4C92-932D-CA5D8D27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667A03-31F9-4EBF-8A11-2739CA21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C96E65-2185-490A-BA54-0FB8B37A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2CB789-02F7-47EF-99B8-0AA2E269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2BFA34-6185-469E-9634-5E43A037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F8C648-A57E-467C-930A-567E1A1A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96BAFC-5C9C-4A34-8E63-B66BDE17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A86A-23A6-460A-904D-598DF22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DE850B-74FF-484B-B86A-D42923DD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351346-125E-4F4D-B9A1-0E92A14A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14AAA2-0B95-4DA4-AE63-1A450B01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1770B6-CFCA-4818-9850-23877B5C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F76669-48A3-4E1C-990B-919EEE06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646D91-D6E8-4DBA-975C-D06A8C7F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F5B1D3-67CE-4CFE-ACDB-A93B775E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AF2DA9-8F3F-4DC7-8CD1-13E8679E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F47E24-A04E-4F9A-8285-E5865CCE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50B838-BA89-46C0-AA98-29208AD2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E1B3-125B-42F1-ACA9-2ED2A4CD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C8C858-A7EC-4C85-A0A5-25B73FB7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D69656-5E9C-4114-B5BD-BC1A9B81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9A4743-85FB-4B5C-B919-1F973785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B59CC0-33C2-4AF9-BC2B-93A9B31D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108E06-E827-4EE5-8EB1-46FF1D60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496A9D-8570-4496-A65C-F3198262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DEBA30-A0B7-4EC6-B705-504F6FF0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D1C304-8C39-4F63-A23C-798BA042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F0F892-C6D4-4B6D-B91B-42DBFD7E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0EAF80-CD6D-470C-B75B-3EA6C956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CE6A-EC3D-45BB-9E40-24804364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538161-0CD1-4746-A8B9-B6913CE4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2CB7FD-B4B5-4DB3-9B22-E54E1418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93C8D8-F31A-423A-B4A6-73985794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36594F-7786-42F0-92A1-707FD65F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5C9375-39E1-47C2-8558-784B577C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5D29DD-E9EF-4851-B9A8-8B19F226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0247E0-95BC-489E-9E21-A5E6C3ED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926127-1D91-4AD7-B73D-4572C3C9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A7114F-FAE5-4509-852D-7DFEF3CE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BFEE53-87B1-4DF8-9F61-8BF94277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5F4A-751F-45A6-A771-0C658DD8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4C4C11-AB8D-4A27-9CE5-EED51491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E91B6A-7A0B-4902-A7F5-316D6E09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48EFCF-27C4-4272-9506-CB0A6A9D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4A30B0-F4B6-4DFC-894D-9BA093F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CF691F-6C03-4302-A5A6-99EF43BB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4FD710-CEB7-4B7C-8166-820DE7AD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919245-0795-4118-8D71-94BC2270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043895-312C-4178-90EF-32AC506D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E5E2F0-5EBB-4B2E-91FD-A90CD5D9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367630-86AD-43CA-B3BC-709318DB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97BA-C489-4DE3-AFC6-88C6520D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93B476-D897-415B-9A74-F0B904C0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F7E50E-F654-415D-8410-1589DEAD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A295AF-79F3-42B9-BECC-78DF298B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7434AB-D658-4BE0-852C-E6CF096A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9EC5C3-8E6C-44A2-A617-BE7824A5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A01959-B033-4CE6-A3E3-98DD9E62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69A1C7-93ED-4A83-A86B-298B8896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292651-1DA7-48D2-BDE6-F460734E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1C5261-DD39-4512-964E-FC5D02E3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800745-DE34-473A-9F78-857FF2C4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C122D-0A24-484C-8CFA-B9D95664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6866B6-13DD-40FC-BF94-84F33E7D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FB41DB-E362-47EF-AA8D-674919DC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FFC693-63F3-4C13-9473-A579E897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E13B50-DCB9-43CF-BF51-62318F8E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689B52-B2FD-481C-948F-DCCC7708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8AD218-92AF-4615-BEA8-AA98F60C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5B41FB-841D-42B1-9143-B85B547D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E68EAF-817C-45C9-B9FF-C99BFB57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5FECD7-3CA0-4D07-8031-170389D2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18B6CF-50F3-4F4B-B94C-D271036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FF5A-4C39-4D70-B4CB-E91CC4E8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EA8EA5-7D8C-4CAF-95F2-2369831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30DEFB-0016-453E-BF63-28608283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FD710D-C64C-4311-B9E5-EDAD591C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02A9A7-1FC3-4D17-A3BE-FD2896EA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1DB7E8-80CD-4250-9369-9DE73C56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7138C7-AAB5-499C-A2FB-A9F9DE1B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9D692C-1F1E-4707-84CB-00363C95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0945A1-FF68-42C4-8157-933ABF28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800EAA-CE66-4C53-AB57-CE086C42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663E61-820C-4EFB-A9D9-290D56D2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227E3-93AA-4E52-A8A0-094C3674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720234-F5C4-4643-B91B-1532C517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92FE1D-7FB7-4412-B054-39CF392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83A080-37F8-412B-95EE-A590474F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98759C-B768-4D3B-B193-A7BFE1BE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63F5FE-8A07-45A2-B71A-374BBD63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777C26-EB59-4394-ADCE-375B2094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73C7D0-66C0-4D4C-9F7A-20C45E4B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A96353-0F05-4715-BCED-33D874D7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DB476B-38E8-4B82-A462-914ECBA9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DAE51B-F3E9-4297-8954-F068D8C6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AC5-59C4-4BC3-A8D9-DAF96C78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2647-B2DC-4121-A37A-43F463B7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82981F-FCE5-4C24-9AC5-BC336DC7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7FFA59-C053-4265-A880-54C53986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582159-76E3-4CD3-A03E-B2EE4B1E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2B57DB-2D11-40E8-86A3-8AA6CE38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0A323F-2DAA-41A7-A55C-22664F6E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C78AA5-A9D0-4BA4-9EAA-94E13915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BE1CB8-DF9B-44A0-962D-03DBF52B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E34145-D92C-499B-A681-7D19AEB7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EA0078-BDB3-41C1-A13D-B1F60F7D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448DE7-D52C-4089-A791-394AE613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4EA53-B6A5-494A-810D-FD8B2FFB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DCB300-F1BA-4ED6-84C3-47C74A4E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FB5D6B-0F9F-4E47-BDCE-E765623A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09A40A-F9B1-4394-BDBB-003847BB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C32F20-0EAA-44BA-A216-8CA1FEC1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F9ACB3-25D1-4976-B5C8-01F94DE6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1A7D7D-AD2E-44FC-AE7B-0FC58857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233336-13A8-4A07-99DF-602A8F02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B7F55B-CC5B-409A-A2E6-AEC16048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EED13F-532A-4E67-9123-8BFD4CDB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740681-CA8E-4525-81A0-D530E295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B070-5FFB-4376-8429-132F774D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45C118-2338-4FAC-B73D-7F30E463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BDD698-92BC-4756-B70B-BDA50691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21DEB7-A56A-4776-94C1-3B136981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A21C5E-B7D1-4C09-A7FF-26549DF5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AC28A6-6FDD-4939-9DBD-86097351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B11512-43DE-45E6-8319-B9219221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53708D-E33E-4F05-B4B2-E9D22326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7526EE-B35A-4245-A291-8B91638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B68DA0-2337-4F8B-A49F-4CC3E255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05B273-5AF9-4BBB-8B00-9138392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5C136-7FC6-4D70-8737-304796D0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03DDC5-5075-47F9-A708-621D9A1C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F1FFC2-6267-43AD-87F6-03ADAB14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835A43-A672-4ED6-8CC2-5B41D665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C22AEF-9555-4A34-B2F7-2EAC0D04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E31D3F-A75D-4DF2-BADE-881D8A01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BFA21C-7802-4445-9D06-AC79447F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A60631-4F0F-4FEE-BD92-45955332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24403D-971C-407F-9087-4420D219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1463B3-B20A-430D-9A0A-72D875F6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690A2F-99EF-420A-ABD6-9AEBB27C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844A9-5F86-4CBE-B18A-50AC7D8A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A44F53-513C-4346-889A-0B808826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56750D-65A0-41D4-9819-159C6B22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5AD3EA9-5FE2-44F1-A736-226451E1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4E5C7F7-B251-4C0F-B6F7-1217071E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52F037-72A9-48EA-BE09-8B02FB62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AF2556-FC43-42FD-B9F7-ABC1C0CB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4642F6-7026-4F1A-A8EE-13DEE474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05E32D-0B19-4A76-BCCD-07996626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1F4741-B937-40F6-9E57-BFA46BE5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59BE29-6D41-4441-918B-AFCDAB78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323C-4C3B-4360-AE88-20CB56D0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26F3C9-16D4-46A7-9F67-DB8C1542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6ECCBD-B588-4A9B-990A-ABD4A06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735BAC-13D7-459A-899E-F20553E3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12BDC5-0D9C-414A-A45F-6A227D2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057D84-0CDE-4568-B003-4D3EC311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9FAF70-FE01-471F-9FE5-1B9F6CBD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F850C1-C1CF-4D86-8909-5DAAF39B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C88B37-0276-4E88-BBDF-B6D74477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32853AA-4DA6-4E68-B304-30E45AE4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CEAA2A0-4646-4FCB-8C6D-371FD230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C8557-0D82-45F8-9B92-55456E91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AD64181-E87C-48F0-8731-42DF51D1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B64AE4-2399-4069-AE95-12300351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DC9C5BA-6B0D-48CD-9166-398471E4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C87F66-7E30-4070-AFB0-6B157E94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EF42DF-D04F-40B8-A2C5-AD128007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B69B3CF-CE4B-43A4-946F-71CBD65B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7B771B-0B0B-44EF-AD0A-B1E7667C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5FEAA02-5FF8-435F-A109-FD454065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648761-D518-4015-81B8-27CD126D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970128-305B-4357-B160-C87C56A1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55F2-A780-4883-9FFA-A3C7BE9C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01A836-D473-45E0-8451-430D53E9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22194D-644D-42E2-A266-32848532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22CB78-9251-4BE5-A976-0C0016D9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DE7C60-CA15-407D-99DA-00578DE2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FD05B0-1511-4746-B243-8CE24202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177677-6201-4E06-9129-C680DCB8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CCD11A-0083-4268-B123-D5D10685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4B4315-4913-4A58-947C-718FDC99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852176-E15D-4D51-8206-9D355CB3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67CDF2-C685-4ECC-98CF-A91D3FC5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5EC4-1A1D-48C8-86D7-E562EA6D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2392E8-ABA4-4D41-852F-F02D0E51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6148F69-215E-4E9F-80BB-29515191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A009BA-79BF-421A-A1FE-E024BFE8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2C84A63-6A59-470A-997B-464215B4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C9F847D-FF17-49C1-B5B0-5B521F71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DFCF6D-A378-4E62-865C-27B9EC3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89AC556-B612-4B4D-A754-5FACAEC2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B28AC6-66F1-4027-94B3-B1585C5F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7F3FAC-F6DC-4773-BA2D-0A3FDCE2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57013B-3C1B-4370-A5E5-BEDB704E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D67B9-FC01-40BF-9F9F-779EEDBA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25AA47-A0F4-49BB-B4F5-1D07CFDD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B5D411-AEE1-43A3-8378-2FB4980C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348F6C-B608-4648-BF03-E1F16C59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675ED8-BF29-485A-9F03-2A2E0E67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08E5C2-3ED1-46E6-A8C8-9C300EB3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205335F-90A4-402B-A859-74258A8A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8393E3-52DC-416D-8F1A-216C4514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ED6CE91-DBFA-4E39-9B85-6396EF16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6BB715-BAAF-40BB-AEC6-3723D8D0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1A6B4D-D0E7-4347-BE4A-7CA25F69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B5C-4309-460A-AEAD-275D2D48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0B0BB-85B5-42E6-BEAB-15867782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99F4EC4-8A72-4E3E-B7AB-D6F3BD54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80EE59-91CA-490F-9AAD-5B2BD58B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F744055-ED60-4366-A621-68FED68C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159961-7A68-489D-BBEC-C1605DA8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A10946D-9B31-48B6-9EC5-03A7DFA9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8ACC805-7300-4355-8C31-DD1D5738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E490C78-B123-411F-B43F-7B3D4250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3B812D-C01D-4F34-A2B5-9EB66FF3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4BE2B8C-BF92-4410-B38D-C84A3CAB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ED20E55-8BD1-472F-8914-EECD2227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E9B02-2E5B-4660-AB23-B0983A01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7EDBEE-A5A0-4362-952C-7FDA8DB1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928BCCF-EE40-4D41-A15E-738F8B85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34C584-0B23-42B2-8A8C-E52389A1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1184926-47B4-4611-BE20-F589A75D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AEB477C-604A-41C3-8496-3D6312E9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47CD7FF-CE9E-48EA-ACD7-9DCE9C36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846C61D-2ABB-47BD-8BBA-7D4794CC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CFBD1F-AB68-4CB6-80CC-434ED357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28A384-509B-4600-866A-1DD92E08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2702651-15AF-428B-80BA-30FC9579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9F4A0-FA6F-402E-99F5-2CBB8385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3BE8E9-A96E-4CDB-A064-5F4C7E9B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2E62EF-67F2-4A6F-A59F-E313ECCC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12DB381-94F6-4B31-BEFE-98E62981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7FFF74-C628-4A49-AB7B-8BBF44D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8F93A19-4AEB-4AE7-937F-C28D1CD2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B536D8-7498-4747-BD27-0795A88F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6F2D88D-A6D3-40E6-9637-171E005D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8DB721-6E53-4C44-A4A0-2D8BE54D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7D2A4D-2E60-43E6-9C34-1F4024E2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D5B797A-5BD0-42E6-BE26-5BBC2F5C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6D964-D38E-4615-9BA3-959A3953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D382B23-68C2-4F3E-8BCF-1A98BA91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60E5A82-0640-4B88-8EAE-AC660FF9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539D80-A925-40F3-8B84-A65B25BF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CE41A27-A2AA-4001-86E1-4BA158C2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775C70C-C618-4487-9C9B-1E19D3A5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17CCAB-4950-4C18-9771-48CE95B6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A6B551D-D69D-4809-8BA8-D5F81E25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88F4D0C-16E0-40F7-8431-3456F93D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2A44CE-6A01-4C40-BA00-E1C76F99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6BAE68F-17E8-4724-B22A-748554BA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1EE3B-A222-4E75-85B8-743A4CBD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B4D7E7-6FC0-4346-AB35-C2BB01FD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DAEB949-C977-4B1F-9A54-34CB358A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5542F53-EEBD-40CD-84B6-B560D850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208E13F-1A3B-4EF2-9432-603F4C74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1D8CA1D-D7A1-435A-A242-7BEE4E8E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CF9672C-DA08-4742-941D-9E0EEF61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C3FB064-A804-45A2-8870-D922C2E8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89C54B4-599A-496A-A8D2-FE29ADB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4121C67-7445-443E-9E0C-A6AB26E0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0269B64-DFA9-43B0-8F7D-FB686104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5D9BC-C34D-470F-A1D3-72F0E036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49A0296-B5A9-4A4F-BBA0-B74C67B4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36DF42-F41D-4E90-A351-00FA273B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E2E85F1-45B5-415B-B58C-D1C4F1E1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357407-8D22-49CF-BDA1-CDE6694B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E23DCAE-F266-4BB6-8087-FFAD201D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735A0EB-45CF-4A07-88B5-0F81763B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B8F8A2-3C53-4DFA-8EC0-9B5528F1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96DB22A-FC01-4770-8DA0-775F0236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E7F8504-122B-42F6-9844-B677C052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08F3E1C-C346-4320-A748-EE2F1158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DFFB1-7515-424C-849E-BB1E8AC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0A04C40-B402-4705-ACD3-EF743F79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292D8E3-2AE0-435B-947B-3B387078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21F698F-EE79-40AE-85C1-0BCF8AEC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DCB930-98DA-48A7-9BC5-82D4778C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C9BAE87-C7B4-4FB6-874D-CBC6963E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26E930-CD7E-45B3-8972-86E73B93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2F210E1-376C-411C-B183-97D02F47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A5741A7-99EB-4EB7-AE1B-9D981D11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AC3CF78-2B9F-4C31-9EE6-C42CF71F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8B2F938-3540-4EEE-8496-C690C6C5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E58E0-6361-4371-9E0D-CD61D862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02BBBD-0CC7-4C96-8267-6EF9ABE2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DE6AE33-70A5-477C-B288-9E8A112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B9E376-75CC-4028-9384-1CA92334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5397959-40FC-46C0-8FE7-B49F3111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114054-87B4-45B1-B502-930A6329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2422CD1-1DC3-4063-BCCD-2B219F1C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D863D91-E5FF-4791-A9DE-F78C5D7C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E7B7B46-8854-4603-BDA1-9B1B1533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5AB5F5C-D550-48A8-AAF3-C06E4828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8C24921-E948-4C5F-9418-056E8782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60877-9F00-4A6F-8F7B-3D66D47D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4FD4314-A39F-4C50-BF1C-204BA2D6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CF01FFA-40C3-4D69-A028-62649C9C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52AF19-C7F1-4345-939F-5CE67BD4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34C16AB-58F7-40B4-BE11-2BA7C94E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BA86BB1-CA3A-4C2A-9524-47B8E102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154EAF2-607C-4F74-8E25-AAD598BE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7EAD504-8BF6-407E-B015-20280E26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5B6244B-C7B6-466F-9BE0-12D41F95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ACF302F-0635-4FDE-8824-55FC00F8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A6B01FC-5B7C-407C-8A7C-11E6327D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1D593-C1EC-4436-984D-745062C7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DAB4E4D-5227-45F5-8C9D-AC8A9FEE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3D2DD0D-B258-4DE4-A09B-B19E61B6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28AE509-33CF-4C65-9F84-304EE880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5F0A2EC-73FC-4601-B079-4E649A2E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B3E0CF4-67F5-462C-9DEA-35879ABD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AFCA61D-77AD-4264-B64E-5650731F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8872C12-E844-42CC-879B-B1F3C03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6602296-65A0-4DDC-BBD9-A740766D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75F6EF5-DB5C-434D-8DAE-051D663E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4150CC4-7F48-4BE0-9A52-BA9B0444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BDC-5C62-47DE-95F7-EC765C92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060C2-CFB0-428B-880F-DC4F47D7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4F18BA7-AB59-4FEF-A9CC-90E36CEC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9B72924-B1B6-4BED-A80B-5F9915E5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A703A07-78B8-4916-8EF1-7E0E7A55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D63F766-D32E-440E-99A3-254B67A7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6C44225-2D82-499C-B0B5-09D98C30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4AE8C66-15E7-4E18-A92A-55006DA3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F49A252-A734-4026-B83B-6A63F1FB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35C0005-8D9F-4648-8096-D6799F28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5FE72F1-CF69-480A-AB9E-993B46F2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1C9A9F7-DA8C-4BB1-8811-C36A116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9266C-BB03-4458-AE0B-9F99B34D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46E0A4F-3B75-4339-AFA7-91598B3A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BD19E82-D6AA-4262-9D40-3E93EFBB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F357320-10B6-45C8-B62D-F9279C70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7E69492-2DA8-4406-8DC1-F46B1E30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76FBC1B-B120-4563-A327-C13049E8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5222B4F-AEB9-4D58-B12E-A162E293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1AA2F2D-563F-4DC7-A118-7ECBA864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47167CB-7576-472A-A1C7-99BBA793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CAEE474-5C4C-4245-BCCF-2756DC67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E8F5405-8E14-4786-9ADB-8B13B22D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8C4D9-CB19-4E52-97FA-ACE71D08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9F6323D-EA0F-4CD6-8E6A-F7ECDE9E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F6FE7F-FF5F-4BC5-9679-64B85DB0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A036DC4-407D-42B3-AE7E-17F0B438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107952F-5672-4041-BCE0-9A120DF6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5AB544A-3778-447B-9897-AB49AF71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1F3DF63-FE1A-4085-B072-8F17802F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C5B50B1-1D0F-42C1-8214-E1240B3A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01A8D66-F7FF-4CA2-B8D0-94B36DCB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EC61CD6-4A75-4AC3-AFBA-5C1AB7A3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840E656-89E3-445E-8DE4-304D90E3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9269F-7563-412C-9D10-EB2F49C9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AC7087-7B22-4191-9481-7D9C9442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3124FC8-0E32-4FE0-8BC2-34A95112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86618DC-E833-4369-9554-31883C11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FA7AE1C-43D4-4A05-B8D0-669E37E2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415C386-CB5C-414B-92B7-4A1A3DCB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080E4E-1FB3-4C89-825B-FF4AFF22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C0D9896-70AD-4E53-B8E7-E1DB9CD5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47842F8-2DEE-4530-8AC5-54722FE7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C3AC27A-87EF-481F-BF4B-56839ECD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7E74638-2FEC-4341-8224-E2A86DF2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48DD8-3140-4F2D-803F-CDD64016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CC2686C-8232-4CCC-9003-7AE7A297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C8DEF50-DA19-4ADB-A1A7-64AAD2D3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819F96F-CAF1-47D0-A5C9-3099CC33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15EC7D7-D93A-4323-AAD9-56C5B880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0F06000-A92C-4E03-BBF6-0FFCBAD8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C86DB9-506D-46F6-AE55-861F3A31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CC923DE-E766-4C51-8975-0504F545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05DDBE-5152-452E-B1A3-1110C1BB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14D1404-B8CF-4248-BC58-93655BD3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92ECDC5-0F36-4C68-AEA4-C280BFF7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B5CDF-7B0F-4819-9340-F88C2AF5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BADE0C8-136B-4AE7-9AEF-71EF6225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BB3E551-661C-4818-8273-CAF4EDBC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A19D293-5E47-4D00-80EA-F76DA0ED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9AE8B64-3BFA-4508-B56A-0B2225F9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55DFDC6-8AC0-468A-B27F-22913975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F4E451A-F230-4C1E-B3E6-7327D7B9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2676E7A-6E54-42AC-B517-ACB020AA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A16F1D1-6D42-4807-8D8F-F67CC982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8C5EACE-7F54-4CE2-8463-B7F6F99C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31F42CB-A81B-4A32-8A9C-099B5BF3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07CAE-A7D5-4FAE-BF4E-8F2DF4AF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53926D6-09BC-4827-9211-BE707FE8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94BDF36-1D70-4D0A-B07E-82360C20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5DF83BA-BB7B-4D63-9245-49A432CE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432AFEF-2828-4118-ACE7-A0CB2157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8051655-0069-411B-81B5-CA7C1395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26BB219-E0DB-4EDA-A569-E5B91EE7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7FA8A85-5789-4730-9CB6-1F956A4F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EE56FD4-14B7-41DC-9874-18F34236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B3846F5-2A51-4E30-AF47-C7F7CA07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D753C62-221C-4B57-A288-655D4455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1C7C9-ECB1-45AA-A17F-37BB84E2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C0E1BD7-7D7D-4BBC-ACCA-A401844B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7C8B4AF-CCCA-4FC3-BE39-95F2D24F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88A3C5A-AB70-49EF-BFE8-B95D3064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90CB531-E034-406B-AFE3-87DF1B2E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D96301C-EB23-4870-9188-DE60512D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1C38332-41D6-4AEF-898D-3CA2677F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7DFF4A0-A08E-43B7-A392-712EC5E8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501BDF9-5E42-46C4-83DB-19E2FDE8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F1003E8-4CFF-4A5A-B2E7-5421642C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47C1A5E-DF5F-4EBA-8D92-3599248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B1289-9CA5-4E93-A18E-365A774C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A4D8182-5F66-4F1A-ADFF-4256E47E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2CE82C0-6135-44AC-88F2-83CC7693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17701A5-7010-4BAB-BC96-D6CA0441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D9A4E7B-F994-4D1F-A467-A66D575A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005A523-EA13-4C14-9CC2-151FEF30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44B0F23-E1C1-46E7-B67C-7634F18A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F74DBE1-F5A9-445D-8805-413B5BF0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E85FD47-DF79-4214-882A-A7635A4D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FE3FC59-10C3-4292-A510-55722400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0186F3E-45EF-47A5-BEC5-686614D6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1ECF7-35E6-47C7-BA28-45BE29D9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4FA90C8-5BFB-4872-8243-6909D1BC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B9E0E7A-57A4-47D8-813B-5A1EF361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62A3B43-04C3-4FD0-AC6E-E61F8F00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A703E82-CCAE-4A2D-A695-F89D3B81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D1FAAF5-6C8C-43DF-877D-17304515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B23D3D5-9902-423D-96A1-D1574174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BE638EE-C0F5-4BE8-A0B7-23E1DBD9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6A7F2EF-1AD1-4E15-B0AE-C44195DD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F4F87CE-7A68-42EF-82F4-A44A4646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8C83C8B-2604-49D7-8846-91D9B6D7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0CE-6E4F-4AD6-8AD8-3C5CDD8B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B2786-5ECC-4884-A875-F9EAFCDE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A4B4E61-E8B7-44B0-8B60-DD6BD22A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326D808-9AC6-44E3-8628-D68B1E98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66AFE7A-BAB6-43AC-A251-68B2E4C1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206C20B-770A-436F-BEB0-12BDA608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7A7FE44-7CAF-4179-8F90-466A3316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32A0682-90F8-41B0-B492-EA16B51A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86EEFEC-5308-4D6E-B9B3-DCC5547D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14500FB-641A-4F37-B3DD-01643585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C6C41E8-B142-4139-A438-BD299F9E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5AF749F-DBA4-4092-876E-EB37D2D7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4761-F0F5-47B6-86ED-ECF114F7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C0893F3-E35E-4FD9-9C3F-B1315762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360B070-59CE-4ECF-8808-AFA74404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0565EED-3F5A-4C4A-9894-0D9E3B40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8C6A8E7-EF64-40EB-839C-06AB41DF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EA4F50F-D6BD-4E63-95CB-6FD3AC8D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EDABBBF-80B1-4039-BD6C-16420A5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B470952-4695-4720-B852-30F4721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8CE2A24-8C64-4726-B8E6-4AED2A4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482E920-617D-451B-BD09-3057E2D9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026B7A7-3313-4E62-A307-4C46ED02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C394-E7ED-494C-B46F-63531B36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5AA5F94-83B5-4D16-B559-8E87D501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000C3DA-0B9F-4B61-B8D8-949734A7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BAD98CC-B095-4082-BCEF-A01AB661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917CB97-4F3E-48F9-A60A-7DE3353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EB4DDF9-3FA3-46B5-A7B4-A90F26E6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7463D4A-83A4-495D-9529-91377ED4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554DAD1-7869-4E8A-9F59-733E7DAE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46F2DA9-9F03-4111-88FD-AE2D1EE0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6857901-7B0A-4361-A030-3DA5B9C4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F10E245-59BA-4345-8495-AC898592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6F177-B54D-4232-AF8D-E46BE7F2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E662D5E-279E-4368-B1AA-5D10F2CD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6D42E3D-F43D-49E4-8231-E173CB61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3D87577-23C5-47F5-8719-85A140A6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72A1619-729D-485F-9E51-96C68481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0CE3F42-6082-4543-8089-684AEF22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FB96BBE-C97E-4D16-9F42-B5172097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92A3ADC-FD08-4CE6-AE92-A391E95D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473B6DF-A9F4-4F1A-A535-FF2AA3E2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5A56F5C-BD69-49FA-B0C5-8B5BE410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4C35E5A-89F5-4A90-9E38-637057EA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2D3A8-939C-49A4-9F58-68736C65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3C0E8E4-CCFB-4E49-9161-D6045E23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13B4BC3-97C5-40BF-9BE5-1CA70A0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B1A0E75-D576-4088-B6C2-1843D6CA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B73E07C-8178-4B03-AA62-6DDEC0D4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5AA4B17-2A50-4F14-9926-E5D287CA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BBF8029-65AA-4396-B82C-BF4EABAE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6F105E8-FD28-49C1-A161-0DC3A05D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316B8FA-82AE-4975-ADFF-3424BF55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DBC4003-A5FA-4815-8E0F-9747E5D6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D4A6EA9-76BB-441C-8067-91B16359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223A6-1E44-4830-BBBE-A462E6EC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FFB7F67-A552-44B3-89F4-42FB6C76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154C9A9-8256-4A4E-83D9-04647DBF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F925B3D-4391-4B58-B34C-67C22809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A136949-641A-41B5-8BEE-771646D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441C591-5189-4AE3-B605-F9123799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CB51E56-521C-4C7F-B593-62E05C78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E92D319-CD9A-4E54-B029-D99EEDB8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0EDFC03-C6F2-4AAD-843D-AF7B247A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B01CCCE-ED85-404C-8100-5D63DF76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93C1E9E-CCE2-497D-9135-5C4A7162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E86AC-CBFC-4E08-A153-F3EFADD7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10AFA99-B649-4650-97D5-ACAA7517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C8B1954-F7FD-4C44-9CCA-909769D6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9FB177F-2443-487C-9FCE-A0EBC6A6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AB5A8B5-F95D-41E0-BB95-4252756F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A0AFDB0-ED3A-49D0-97BA-D4BE39D4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4CCDB74-2103-43C1-8B51-22C5719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2D9F138-D1F6-4D80-AD7A-61FFEB2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8AE00C2-76E9-4FD6-B989-53926293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006433C-1AA1-4C05-88B4-688FAD9D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55FE3CD-D5BB-42D2-BB62-0AD7357B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E9CC8-01F0-430E-B95B-AD7F14E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C1C8B93-833C-4D92-A8DB-D389A17D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8DB396C-4FA1-45FB-B2DF-5A14056D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2B1D9DA-EA50-4B91-B0DD-DEB9B739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79FC094-133A-43B7-8E43-49EF3EF7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B1D23FD-5853-406A-9670-FD8AFCCD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1AB31E2-2823-4A2E-97CD-2FE3417B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6A70657-4C22-4D44-A850-90E46CD3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D24520C-B114-415F-A9EB-D961A893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05DD56F-E9E5-4760-8899-984BA417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9096E43-B111-49D9-B7BA-237E6146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45B63-093D-4F0D-BB29-E8BBCB4E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979148A-9E0B-4FC7-A64A-6ED1F631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FE9F45D-79B0-47AE-BEE6-96F5B31E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3D5B138-0D5E-4D83-A4D5-4BEDE512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76B1AD4-0830-4EA9-B27D-2F3BB78B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A14C34B-54E2-4804-9AE5-25BD6FEC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9598AE9-6F70-4751-B173-9E187601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02399E0-F4AF-4C8B-A22F-55E4DCB7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206DDB3-8B8B-4089-A09C-1FA92998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DA25D3C-8146-48DE-8470-677F80E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FEA3162-3BAE-42F0-A93F-64DB1E62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E1B9A-E190-41EC-B984-57DB95C4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17CBBCA-F5F6-4A57-8E88-E554CF68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03B9278-20E3-41AD-B261-FBDDB980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3A62E45-025C-4FD1-9CA2-E6B3345A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08D4159-BEB1-402A-8788-919C9E4A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034351D-961F-4672-BB58-F2CD8257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EF07CFD-3FE3-4CDA-9BAD-6F6C4CC3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042F704-C4E2-4969-8B6E-E1D1B4F8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DE20B8E-B2B0-4557-A9A3-9598E34F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8D9B3EB-33C4-4619-9F4E-92DE8F36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8E67C91-D6C8-4E0D-8441-349FE24A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B43-DC7F-4F33-B903-41920FD4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33310-2F15-4F10-ACD4-80F4B10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E6A4F45-9775-41D9-8E9A-CED3BF03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F8BFB1F-C762-418F-9B91-7A0FDB9B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78487B1-EA6F-48E5-A086-F1C61C86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FCCCE50-A1BD-470D-8255-3F317612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C79D186-3782-4522-B597-DD470CFB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7F461FC-18A6-4680-B045-35A4C7F2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CB2DE98-B861-4778-B51A-35514FC2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B31F9DC-2204-49D2-B387-31C450D2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E5614F4-F2E5-4E8F-BD3E-2AF72BF4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72A3CBA-6CF0-465D-99B8-EFA19FD0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1530C-2102-4A87-821C-512C8B2F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A483570-BE3D-4D86-9937-13C8FCEC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FACD336-05BF-40F4-A8D6-C0738418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61D80DD-6E63-4182-8878-20A50E9D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F9DF0DA-8FA3-403C-B55A-51409509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D5742BA-D528-4752-A5EF-9937A514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85F6CA3-E861-4802-9221-0DCAD011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96CDCF9-4086-4190-96BF-662E754B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1D51E94-03AA-45A6-94B6-4F5CE05A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F99E109-3AF7-48D5-8F12-66A855C5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66409D5-4F20-4A0B-97D6-5F0FE0AF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42C0B-302D-4F51-9A7F-F8334270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88AF232-5BF7-42E8-82E0-2FF4D7DB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8B76359-2935-41AD-8E33-F80CE870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695EA34-6AE7-45D1-A410-295CEED6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DC5B9F0-A516-4114-B0C7-3960B3ED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10389CC-0D59-4DD9-AC97-D987F376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61EC29B-19ED-4006-8EF9-8EF91B38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A6E4046-28A5-4E90-A1B6-3E01B387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BB72E21-C8C1-4A1D-9A39-77EA0B42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835BC4C-725A-45DA-A635-8044F1C9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FD3D03F-FCFD-41A3-B0A2-144E3977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729E6-BA79-4B23-8429-7653F4EC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22C2AF9-48D8-4E11-9D7B-5041B877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77487DB-EF1F-4927-A13F-4DF7B449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5F3B1F2-39F1-400C-B9CC-B21FD287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7335612-3877-4598-94D1-61422055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6B1E979-5613-461C-BFD7-2060EB77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EFA1BFB-CEAD-4717-8951-2861B1D0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BF262AB-CD94-4001-8227-9135CA57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57B802E-C329-4371-AEDA-8881E369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71220AA-E76F-43B1-801F-E198B8BF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7DE7A7E-0415-4198-9C15-D67DE08A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78C8E-836A-4E87-85FA-47F32941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D7EEAD5-BA24-41FA-98AE-D2AE6C3B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7D4BC38-4FFC-476F-ADDC-632B32D5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63B0076-345E-46A2-8331-DE99C151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EAFFD83-958E-4070-9533-4D697123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EB5BF0F-2AA3-498F-82F8-A60F4289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6E194DC-E969-4DAD-8B7C-07C1B7CA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8464C42-0847-4A18-B084-59DC3012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3DFCA61-F5AC-4747-A6B8-8EE2A17F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9FCEF4B-88E1-42B7-8627-59EA266F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98775F9-EF5F-46E2-918E-2597D30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BACB3-89AE-4EF6-B65D-8145D5E9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227971C-F630-4A69-B416-5ED8E669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57A898F-3E50-4BEB-8931-6515F58E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0D5E4E0-1E56-4E0D-9641-4A6A63C3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A5C3D90-FCF7-441F-8177-5B853083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13D8DD3-42FB-46B5-9B4A-6D3FD60F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11F0A79-0C98-4BFE-B67A-0F1BF6D0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0D963CD-7E81-45AD-95C3-FE0A85EB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9A26BC6-1065-47DB-9676-C4E934A5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733665D-2DAD-48F3-8D16-3C0A522E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CAF9760-882D-4662-B120-F37794CC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4B2EB-6506-4BAE-9677-C51E27FE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79AE9A1-30FB-44FB-962F-EFA52896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29A7F56-8E65-4614-831D-A064D50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B000A02-61D8-4D48-BD46-8E396115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733DCD1-0C6F-4A54-9CCD-FBCD0A27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83DB0F7-A9D2-40DB-BE18-F3952E2A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291CA06-9274-479A-86B8-05D35DF6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946FC21-9954-4B0D-9411-4B818120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9743AB5-6447-4CCF-9CFD-27F85E7E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B0B6CBB-A02A-44A6-924E-20BEE1BD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1E0300E-9B5D-42A9-91E8-3D89853A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D8B8F-2B6A-4050-B97C-125B3413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4480288-0FDB-4D55-9155-130BCBF6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7AAD35C-ADBE-4CC6-B912-BD6E4A9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69E169D-D177-4A6D-99AC-0401B64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1141C44-C666-4EA7-8D41-385A3222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2E3B4AC-8852-421A-A465-0B6C5F44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851A68E-99CC-4740-9A96-CCD9BE54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D5B5B84-2F04-4EF7-A1C6-58672DDF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43153-3768-4BA0-96A8-9DC4BD6F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1B56A-B75A-4D9F-8917-07A840EA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3D3-EA9F-4EB8-A5D4-142B0778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B9246-22EC-4646-A0A7-4F497E79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5D07A-DC6D-4688-BF34-A8E90B8F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0479E-E840-4260-9215-C267CA3C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F4BC0-EC43-417F-BAF9-D6F364C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EB531-8C99-4732-BD1C-D8107FCE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7956F-820B-40B3-B84B-550AD6F9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40A63-5B8F-47F7-B8F6-477CD706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9199B-B688-4D11-9FE5-4FD6C958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150C3-8007-4CCD-938B-79436F2C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33557-F929-4DD6-8B2B-2F1A8888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53.xml"/><Relationship Id="rId6" Type="http://schemas.openxmlformats.org/officeDocument/2006/relationships/slideLayout" Target="../slideLayouts/slideLayout554.xml"/><Relationship Id="rId7" Type="http://schemas.openxmlformats.org/officeDocument/2006/relationships/slideLayout" Target="../slideLayouts/slideLayout555.xml"/><Relationship Id="rId8" Type="http://schemas.openxmlformats.org/officeDocument/2006/relationships/slideLayout" Target="../slideLayouts/slideLayout556.xml"/><Relationship Id="rId9" Type="http://schemas.openxmlformats.org/officeDocument/2006/relationships/slideLayout" Target="../slideLayouts/slideLayout557.xml"/><Relationship Id="rId10" Type="http://schemas.openxmlformats.org/officeDocument/2006/relationships/slideLayout" Target="../slideLayouts/slideLayout558.xml"/><Relationship Id="rId11" Type="http://schemas.openxmlformats.org/officeDocument/2006/relationships/slideLayout" Target="../slideLayouts/slideLayout559.xml"/><Relationship Id="rId12" Type="http://schemas.openxmlformats.org/officeDocument/2006/relationships/slideLayout" Target="../slideLayouts/slideLayout560.xml"/><Relationship Id="rId13" Type="http://schemas.openxmlformats.org/officeDocument/2006/relationships/slideLayout" Target="../slideLayouts/slideLayout561.xml"/><Relationship Id="rId14" Type="http://schemas.openxmlformats.org/officeDocument/2006/relationships/slideLayout" Target="../slideLayouts/slideLayout562.xml"/><Relationship Id="rId15" Type="http://schemas.openxmlformats.org/officeDocument/2006/relationships/slideLayout" Target="../slideLayouts/slideLayout563.xml"/><Relationship Id="rId16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77.xml"/><Relationship Id="rId6" Type="http://schemas.openxmlformats.org/officeDocument/2006/relationships/slideLayout" Target="../slideLayouts/slideLayout578.xml"/><Relationship Id="rId7" Type="http://schemas.openxmlformats.org/officeDocument/2006/relationships/slideLayout" Target="../slideLayouts/slideLayout579.xml"/><Relationship Id="rId8" Type="http://schemas.openxmlformats.org/officeDocument/2006/relationships/slideLayout" Target="../slideLayouts/slideLayout580.xml"/><Relationship Id="rId9" Type="http://schemas.openxmlformats.org/officeDocument/2006/relationships/slideLayout" Target="../slideLayouts/slideLayout581.xml"/><Relationship Id="rId10" Type="http://schemas.openxmlformats.org/officeDocument/2006/relationships/slideLayout" Target="../slideLayouts/slideLayout582.xml"/><Relationship Id="rId11" Type="http://schemas.openxmlformats.org/officeDocument/2006/relationships/slideLayout" Target="../slideLayouts/slideLayout583.xml"/><Relationship Id="rId12" Type="http://schemas.openxmlformats.org/officeDocument/2006/relationships/slideLayout" Target="../slideLayouts/slideLayout584.xml"/><Relationship Id="rId13" Type="http://schemas.openxmlformats.org/officeDocument/2006/relationships/slideLayout" Target="../slideLayouts/slideLayout585.xml"/><Relationship Id="rId14" Type="http://schemas.openxmlformats.org/officeDocument/2006/relationships/slideLayout" Target="../slideLayouts/slideLayout586.xml"/><Relationship Id="rId15" Type="http://schemas.openxmlformats.org/officeDocument/2006/relationships/slideLayout" Target="../slideLayouts/slideLayout587.xml"/><Relationship Id="rId16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89.xml"/><Relationship Id="rId6" Type="http://schemas.openxmlformats.org/officeDocument/2006/relationships/slideLayout" Target="../slideLayouts/slideLayout590.xml"/><Relationship Id="rId7" Type="http://schemas.openxmlformats.org/officeDocument/2006/relationships/slideLayout" Target="../slideLayouts/slideLayout591.xml"/><Relationship Id="rId8" Type="http://schemas.openxmlformats.org/officeDocument/2006/relationships/slideLayout" Target="../slideLayouts/slideLayout592.xml"/><Relationship Id="rId9" Type="http://schemas.openxmlformats.org/officeDocument/2006/relationships/slideLayout" Target="../slideLayouts/slideLayout593.xml"/><Relationship Id="rId10" Type="http://schemas.openxmlformats.org/officeDocument/2006/relationships/slideLayout" Target="../slideLayouts/slideLayout594.xml"/><Relationship Id="rId11" Type="http://schemas.openxmlformats.org/officeDocument/2006/relationships/slideLayout" Target="../slideLayouts/slideLayout595.xml"/><Relationship Id="rId12" Type="http://schemas.openxmlformats.org/officeDocument/2006/relationships/slideLayout" Target="../slideLayouts/slideLayout596.xml"/><Relationship Id="rId13" Type="http://schemas.openxmlformats.org/officeDocument/2006/relationships/slideLayout" Target="../slideLayouts/slideLayout597.xml"/><Relationship Id="rId14" Type="http://schemas.openxmlformats.org/officeDocument/2006/relationships/slideLayout" Target="../slideLayouts/slideLayout598.xml"/><Relationship Id="rId15" Type="http://schemas.openxmlformats.org/officeDocument/2006/relationships/slideLayout" Target="../slideLayouts/slideLayout599.xml"/><Relationship Id="rId16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01.xml"/><Relationship Id="rId6" Type="http://schemas.openxmlformats.org/officeDocument/2006/relationships/slideLayout" Target="../slideLayouts/slideLayout602.xml"/><Relationship Id="rId7" Type="http://schemas.openxmlformats.org/officeDocument/2006/relationships/slideLayout" Target="../slideLayouts/slideLayout603.xml"/><Relationship Id="rId8" Type="http://schemas.openxmlformats.org/officeDocument/2006/relationships/slideLayout" Target="../slideLayouts/slideLayout604.xml"/><Relationship Id="rId9" Type="http://schemas.openxmlformats.org/officeDocument/2006/relationships/slideLayout" Target="../slideLayouts/slideLayout605.xml"/><Relationship Id="rId10" Type="http://schemas.openxmlformats.org/officeDocument/2006/relationships/slideLayout" Target="../slideLayouts/slideLayout606.xml"/><Relationship Id="rId11" Type="http://schemas.openxmlformats.org/officeDocument/2006/relationships/slideLayout" Target="../slideLayouts/slideLayout607.xml"/><Relationship Id="rId12" Type="http://schemas.openxmlformats.org/officeDocument/2006/relationships/slideLayout" Target="../slideLayouts/slideLayout608.xml"/><Relationship Id="rId13" Type="http://schemas.openxmlformats.org/officeDocument/2006/relationships/slideLayout" Target="../slideLayouts/slideLayout609.xml"/><Relationship Id="rId14" Type="http://schemas.openxmlformats.org/officeDocument/2006/relationships/slideLayout" Target="../slideLayouts/slideLayout610.xml"/><Relationship Id="rId15" Type="http://schemas.openxmlformats.org/officeDocument/2006/relationships/slideLayout" Target="../slideLayouts/slideLayout611.xml"/><Relationship Id="rId16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3.xml"/><Relationship Id="rId6" Type="http://schemas.openxmlformats.org/officeDocument/2006/relationships/slideLayout" Target="../slideLayouts/slideLayout614.xml"/><Relationship Id="rId7" Type="http://schemas.openxmlformats.org/officeDocument/2006/relationships/slideLayout" Target="../slideLayouts/slideLayout615.xml"/><Relationship Id="rId8" Type="http://schemas.openxmlformats.org/officeDocument/2006/relationships/slideLayout" Target="../slideLayouts/slideLayout616.xml"/><Relationship Id="rId9" Type="http://schemas.openxmlformats.org/officeDocument/2006/relationships/slideLayout" Target="../slideLayouts/slideLayout617.xml"/><Relationship Id="rId10" Type="http://schemas.openxmlformats.org/officeDocument/2006/relationships/slideLayout" Target="../slideLayouts/slideLayout618.xml"/><Relationship Id="rId11" Type="http://schemas.openxmlformats.org/officeDocument/2006/relationships/slideLayout" Target="../slideLayouts/slideLayout619.xml"/><Relationship Id="rId12" Type="http://schemas.openxmlformats.org/officeDocument/2006/relationships/slideLayout" Target="../slideLayouts/slideLayout620.xml"/><Relationship Id="rId13" Type="http://schemas.openxmlformats.org/officeDocument/2006/relationships/slideLayout" Target="../slideLayouts/slideLayout621.xml"/><Relationship Id="rId14" Type="http://schemas.openxmlformats.org/officeDocument/2006/relationships/slideLayout" Target="../slideLayouts/slideLayout622.xml"/><Relationship Id="rId15" Type="http://schemas.openxmlformats.org/officeDocument/2006/relationships/slideLayout" Target="../slideLayouts/slideLayout623.xml"/><Relationship Id="rId16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25.xml"/><Relationship Id="rId6" Type="http://schemas.openxmlformats.org/officeDocument/2006/relationships/slideLayout" Target="../slideLayouts/slideLayout626.xml"/><Relationship Id="rId7" Type="http://schemas.openxmlformats.org/officeDocument/2006/relationships/slideLayout" Target="../slideLayouts/slideLayout627.xml"/><Relationship Id="rId8" Type="http://schemas.openxmlformats.org/officeDocument/2006/relationships/slideLayout" Target="../slideLayouts/slideLayout628.xml"/><Relationship Id="rId9" Type="http://schemas.openxmlformats.org/officeDocument/2006/relationships/slideLayout" Target="../slideLayouts/slideLayout629.xml"/><Relationship Id="rId10" Type="http://schemas.openxmlformats.org/officeDocument/2006/relationships/slideLayout" Target="../slideLayouts/slideLayout630.xml"/><Relationship Id="rId11" Type="http://schemas.openxmlformats.org/officeDocument/2006/relationships/slideLayout" Target="../slideLayouts/slideLayout631.xml"/><Relationship Id="rId12" Type="http://schemas.openxmlformats.org/officeDocument/2006/relationships/slideLayout" Target="../slideLayouts/slideLayout632.xml"/><Relationship Id="rId13" Type="http://schemas.openxmlformats.org/officeDocument/2006/relationships/slideLayout" Target="../slideLayouts/slideLayout633.xml"/><Relationship Id="rId14" Type="http://schemas.openxmlformats.org/officeDocument/2006/relationships/slideLayout" Target="../slideLayouts/slideLayout634.xml"/><Relationship Id="rId15" Type="http://schemas.openxmlformats.org/officeDocument/2006/relationships/slideLayout" Target="../slideLayouts/slideLayout635.xml"/><Relationship Id="rId16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97.xml"/><Relationship Id="rId6" Type="http://schemas.openxmlformats.org/officeDocument/2006/relationships/slideLayout" Target="../slideLayouts/slideLayout698.xml"/><Relationship Id="rId7" Type="http://schemas.openxmlformats.org/officeDocument/2006/relationships/slideLayout" Target="../slideLayouts/slideLayout699.xml"/><Relationship Id="rId8" Type="http://schemas.openxmlformats.org/officeDocument/2006/relationships/slideLayout" Target="../slideLayouts/slideLayout700.xml"/><Relationship Id="rId9" Type="http://schemas.openxmlformats.org/officeDocument/2006/relationships/slideLayout" Target="../slideLayouts/slideLayout701.xml"/><Relationship Id="rId10" Type="http://schemas.openxmlformats.org/officeDocument/2006/relationships/slideLayout" Target="../slideLayouts/slideLayout702.xml"/><Relationship Id="rId11" Type="http://schemas.openxmlformats.org/officeDocument/2006/relationships/slideLayout" Target="../slideLayouts/slideLayout703.xml"/><Relationship Id="rId12" Type="http://schemas.openxmlformats.org/officeDocument/2006/relationships/slideLayout" Target="../slideLayouts/slideLayout704.xml"/><Relationship Id="rId13" Type="http://schemas.openxmlformats.org/officeDocument/2006/relationships/slideLayout" Target="../slideLayouts/slideLayout705.xml"/><Relationship Id="rId14" Type="http://schemas.openxmlformats.org/officeDocument/2006/relationships/slideLayout" Target="../slideLayouts/slideLayout706.xml"/><Relationship Id="rId15" Type="http://schemas.openxmlformats.org/officeDocument/2006/relationships/slideLayout" Target="../slideLayouts/slideLayout707.xml"/><Relationship Id="rId16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09.xml"/><Relationship Id="rId6" Type="http://schemas.openxmlformats.org/officeDocument/2006/relationships/slideLayout" Target="../slideLayouts/slideLayout710.xml"/><Relationship Id="rId7" Type="http://schemas.openxmlformats.org/officeDocument/2006/relationships/slideLayout" Target="../slideLayouts/slideLayout711.xml"/><Relationship Id="rId8" Type="http://schemas.openxmlformats.org/officeDocument/2006/relationships/slideLayout" Target="../slideLayouts/slideLayout712.xml"/><Relationship Id="rId9" Type="http://schemas.openxmlformats.org/officeDocument/2006/relationships/slideLayout" Target="../slideLayouts/slideLayout713.xml"/><Relationship Id="rId10" Type="http://schemas.openxmlformats.org/officeDocument/2006/relationships/slideLayout" Target="../slideLayouts/slideLayout714.xml"/><Relationship Id="rId11" Type="http://schemas.openxmlformats.org/officeDocument/2006/relationships/slideLayout" Target="../slideLayouts/slideLayout715.xml"/><Relationship Id="rId12" Type="http://schemas.openxmlformats.org/officeDocument/2006/relationships/slideLayout" Target="../slideLayouts/slideLayout716.xml"/><Relationship Id="rId13" Type="http://schemas.openxmlformats.org/officeDocument/2006/relationships/slideLayout" Target="../slideLayouts/slideLayout717.xml"/><Relationship Id="rId14" Type="http://schemas.openxmlformats.org/officeDocument/2006/relationships/slideLayout" Target="../slideLayouts/slideLayout718.xml"/><Relationship Id="rId15" Type="http://schemas.openxmlformats.org/officeDocument/2006/relationships/slideLayout" Target="../slideLayouts/slideLayout719.xml"/><Relationship Id="rId16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21.xml"/><Relationship Id="rId6" Type="http://schemas.openxmlformats.org/officeDocument/2006/relationships/slideLayout" Target="../slideLayouts/slideLayout722.xml"/><Relationship Id="rId7" Type="http://schemas.openxmlformats.org/officeDocument/2006/relationships/slideLayout" Target="../slideLayouts/slideLayout723.xml"/><Relationship Id="rId8" Type="http://schemas.openxmlformats.org/officeDocument/2006/relationships/slideLayout" Target="../slideLayouts/slideLayout724.xml"/><Relationship Id="rId9" Type="http://schemas.openxmlformats.org/officeDocument/2006/relationships/slideLayout" Target="../slideLayouts/slideLayout725.xml"/><Relationship Id="rId10" Type="http://schemas.openxmlformats.org/officeDocument/2006/relationships/slideLayout" Target="../slideLayouts/slideLayout726.xml"/><Relationship Id="rId11" Type="http://schemas.openxmlformats.org/officeDocument/2006/relationships/slideLayout" Target="../slideLayouts/slideLayout727.xml"/><Relationship Id="rId12" Type="http://schemas.openxmlformats.org/officeDocument/2006/relationships/slideLayout" Target="../slideLayouts/slideLayout728.xml"/><Relationship Id="rId13" Type="http://schemas.openxmlformats.org/officeDocument/2006/relationships/slideLayout" Target="../slideLayouts/slideLayout729.xml"/><Relationship Id="rId14" Type="http://schemas.openxmlformats.org/officeDocument/2006/relationships/slideLayout" Target="../slideLayouts/slideLayout730.xml"/><Relationship Id="rId15" Type="http://schemas.openxmlformats.org/officeDocument/2006/relationships/slideLayout" Target="../slideLayouts/slideLayout731.xml"/><Relationship Id="rId16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3.xml"/><Relationship Id="rId6" Type="http://schemas.openxmlformats.org/officeDocument/2006/relationships/slideLayout" Target="../slideLayouts/slideLayout734.xml"/><Relationship Id="rId7" Type="http://schemas.openxmlformats.org/officeDocument/2006/relationships/slideLayout" Target="../slideLayouts/slideLayout735.xml"/><Relationship Id="rId8" Type="http://schemas.openxmlformats.org/officeDocument/2006/relationships/slideLayout" Target="../slideLayouts/slideLayout736.xml"/><Relationship Id="rId9" Type="http://schemas.openxmlformats.org/officeDocument/2006/relationships/slideLayout" Target="../slideLayouts/slideLayout737.xml"/><Relationship Id="rId10" Type="http://schemas.openxmlformats.org/officeDocument/2006/relationships/slideLayout" Target="../slideLayouts/slideLayout738.xml"/><Relationship Id="rId11" Type="http://schemas.openxmlformats.org/officeDocument/2006/relationships/slideLayout" Target="../slideLayouts/slideLayout739.xml"/><Relationship Id="rId12" Type="http://schemas.openxmlformats.org/officeDocument/2006/relationships/slideLayout" Target="../slideLayouts/slideLayout740.xml"/><Relationship Id="rId13" Type="http://schemas.openxmlformats.org/officeDocument/2006/relationships/slideLayout" Target="../slideLayouts/slideLayout741.xml"/><Relationship Id="rId14" Type="http://schemas.openxmlformats.org/officeDocument/2006/relationships/slideLayout" Target="../slideLayouts/slideLayout742.xml"/><Relationship Id="rId15" Type="http://schemas.openxmlformats.org/officeDocument/2006/relationships/slideLayout" Target="../slideLayouts/slideLayout743.xml"/><Relationship Id="rId16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45.xml"/><Relationship Id="rId6" Type="http://schemas.openxmlformats.org/officeDocument/2006/relationships/slideLayout" Target="../slideLayouts/slideLayout746.xml"/><Relationship Id="rId7" Type="http://schemas.openxmlformats.org/officeDocument/2006/relationships/slideLayout" Target="../slideLayouts/slideLayout747.xml"/><Relationship Id="rId8" Type="http://schemas.openxmlformats.org/officeDocument/2006/relationships/slideLayout" Target="../slideLayouts/slideLayout748.xml"/><Relationship Id="rId9" Type="http://schemas.openxmlformats.org/officeDocument/2006/relationships/slideLayout" Target="../slideLayouts/slideLayout749.xml"/><Relationship Id="rId10" Type="http://schemas.openxmlformats.org/officeDocument/2006/relationships/slideLayout" Target="../slideLayouts/slideLayout750.xml"/><Relationship Id="rId11" Type="http://schemas.openxmlformats.org/officeDocument/2006/relationships/slideLayout" Target="../slideLayouts/slideLayout751.xml"/><Relationship Id="rId12" Type="http://schemas.openxmlformats.org/officeDocument/2006/relationships/slideLayout" Target="../slideLayouts/slideLayout752.xml"/><Relationship Id="rId13" Type="http://schemas.openxmlformats.org/officeDocument/2006/relationships/slideLayout" Target="../slideLayouts/slideLayout753.xml"/><Relationship Id="rId14" Type="http://schemas.openxmlformats.org/officeDocument/2006/relationships/slideLayout" Target="../slideLayouts/slideLayout754.xml"/><Relationship Id="rId15" Type="http://schemas.openxmlformats.org/officeDocument/2006/relationships/slideLayout" Target="../slideLayouts/slideLayout755.xml"/><Relationship Id="rId16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57.xml"/><Relationship Id="rId6" Type="http://schemas.openxmlformats.org/officeDocument/2006/relationships/slideLayout" Target="../slideLayouts/slideLayout758.xml"/><Relationship Id="rId7" Type="http://schemas.openxmlformats.org/officeDocument/2006/relationships/slideLayout" Target="../slideLayouts/slideLayout759.xml"/><Relationship Id="rId8" Type="http://schemas.openxmlformats.org/officeDocument/2006/relationships/slideLayout" Target="../slideLayouts/slideLayout760.xml"/><Relationship Id="rId9" Type="http://schemas.openxmlformats.org/officeDocument/2006/relationships/slideLayout" Target="../slideLayouts/slideLayout761.xml"/><Relationship Id="rId10" Type="http://schemas.openxmlformats.org/officeDocument/2006/relationships/slideLayout" Target="../slideLayouts/slideLayout762.xml"/><Relationship Id="rId11" Type="http://schemas.openxmlformats.org/officeDocument/2006/relationships/slideLayout" Target="../slideLayouts/slideLayout763.xml"/><Relationship Id="rId12" Type="http://schemas.openxmlformats.org/officeDocument/2006/relationships/slideLayout" Target="../slideLayouts/slideLayout764.xml"/><Relationship Id="rId13" Type="http://schemas.openxmlformats.org/officeDocument/2006/relationships/slideLayout" Target="../slideLayouts/slideLayout765.xml"/><Relationship Id="rId14" Type="http://schemas.openxmlformats.org/officeDocument/2006/relationships/slideLayout" Target="../slideLayouts/slideLayout766.xml"/><Relationship Id="rId15" Type="http://schemas.openxmlformats.org/officeDocument/2006/relationships/slideLayout" Target="../slideLayouts/slideLayout767.xml"/><Relationship Id="rId16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69.xml"/><Relationship Id="rId6" Type="http://schemas.openxmlformats.org/officeDocument/2006/relationships/slideLayout" Target="../slideLayouts/slideLayout770.xml"/><Relationship Id="rId7" Type="http://schemas.openxmlformats.org/officeDocument/2006/relationships/slideLayout" Target="../slideLayouts/slideLayout771.xml"/><Relationship Id="rId8" Type="http://schemas.openxmlformats.org/officeDocument/2006/relationships/slideLayout" Target="../slideLayouts/slideLayout772.xml"/><Relationship Id="rId9" Type="http://schemas.openxmlformats.org/officeDocument/2006/relationships/slideLayout" Target="../slideLayouts/slideLayout773.xml"/><Relationship Id="rId10" Type="http://schemas.openxmlformats.org/officeDocument/2006/relationships/slideLayout" Target="../slideLayouts/slideLayout774.xml"/><Relationship Id="rId11" Type="http://schemas.openxmlformats.org/officeDocument/2006/relationships/slideLayout" Target="../slideLayouts/slideLayout775.xml"/><Relationship Id="rId12" Type="http://schemas.openxmlformats.org/officeDocument/2006/relationships/slideLayout" Target="../slideLayouts/slideLayout776.xml"/><Relationship Id="rId13" Type="http://schemas.openxmlformats.org/officeDocument/2006/relationships/slideLayout" Target="../slideLayouts/slideLayout777.xml"/><Relationship Id="rId14" Type="http://schemas.openxmlformats.org/officeDocument/2006/relationships/slideLayout" Target="../slideLayouts/slideLayout778.xml"/><Relationship Id="rId15" Type="http://schemas.openxmlformats.org/officeDocument/2006/relationships/slideLayout" Target="../slideLayouts/slideLayout779.xml"/><Relationship Id="rId16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81.xml"/><Relationship Id="rId6" Type="http://schemas.openxmlformats.org/officeDocument/2006/relationships/slideLayout" Target="../slideLayouts/slideLayout782.xml"/><Relationship Id="rId7" Type="http://schemas.openxmlformats.org/officeDocument/2006/relationships/slideLayout" Target="../slideLayouts/slideLayout783.xml"/><Relationship Id="rId8" Type="http://schemas.openxmlformats.org/officeDocument/2006/relationships/slideLayout" Target="../slideLayouts/slideLayout784.xml"/><Relationship Id="rId9" Type="http://schemas.openxmlformats.org/officeDocument/2006/relationships/slideLayout" Target="../slideLayouts/slideLayout785.xml"/><Relationship Id="rId10" Type="http://schemas.openxmlformats.org/officeDocument/2006/relationships/slideLayout" Target="../slideLayouts/slideLayout786.xml"/><Relationship Id="rId11" Type="http://schemas.openxmlformats.org/officeDocument/2006/relationships/slideLayout" Target="../slideLayouts/slideLayout787.xml"/><Relationship Id="rId12" Type="http://schemas.openxmlformats.org/officeDocument/2006/relationships/slideLayout" Target="../slideLayouts/slideLayout788.xml"/><Relationship Id="rId13" Type="http://schemas.openxmlformats.org/officeDocument/2006/relationships/slideLayout" Target="../slideLayouts/slideLayout789.xml"/><Relationship Id="rId14" Type="http://schemas.openxmlformats.org/officeDocument/2006/relationships/slideLayout" Target="../slideLayouts/slideLayout790.xml"/><Relationship Id="rId15" Type="http://schemas.openxmlformats.org/officeDocument/2006/relationships/slideLayout" Target="../slideLayouts/slideLayout791.xml"/><Relationship Id="rId16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93.xml"/><Relationship Id="rId6" Type="http://schemas.openxmlformats.org/officeDocument/2006/relationships/slideLayout" Target="../slideLayouts/slideLayout794.xml"/><Relationship Id="rId7" Type="http://schemas.openxmlformats.org/officeDocument/2006/relationships/slideLayout" Target="../slideLayouts/slideLayout795.xml"/><Relationship Id="rId8" Type="http://schemas.openxmlformats.org/officeDocument/2006/relationships/slideLayout" Target="../slideLayouts/slideLayout796.xml"/><Relationship Id="rId9" Type="http://schemas.openxmlformats.org/officeDocument/2006/relationships/slideLayout" Target="../slideLayouts/slideLayout797.xml"/><Relationship Id="rId10" Type="http://schemas.openxmlformats.org/officeDocument/2006/relationships/slideLayout" Target="../slideLayouts/slideLayout798.xml"/><Relationship Id="rId11" Type="http://schemas.openxmlformats.org/officeDocument/2006/relationships/slideLayout" Target="../slideLayouts/slideLayout799.xml"/><Relationship Id="rId12" Type="http://schemas.openxmlformats.org/officeDocument/2006/relationships/slideLayout" Target="../slideLayouts/slideLayout800.xml"/><Relationship Id="rId13" Type="http://schemas.openxmlformats.org/officeDocument/2006/relationships/slideLayout" Target="../slideLayouts/slideLayout801.xml"/><Relationship Id="rId14" Type="http://schemas.openxmlformats.org/officeDocument/2006/relationships/slideLayout" Target="../slideLayouts/slideLayout802.xml"/><Relationship Id="rId15" Type="http://schemas.openxmlformats.org/officeDocument/2006/relationships/slideLayout" Target="../slideLayouts/slideLayout803.xml"/><Relationship Id="rId16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05.xml"/><Relationship Id="rId6" Type="http://schemas.openxmlformats.org/officeDocument/2006/relationships/slideLayout" Target="../slideLayouts/slideLayout806.xml"/><Relationship Id="rId7" Type="http://schemas.openxmlformats.org/officeDocument/2006/relationships/slideLayout" Target="../slideLayouts/slideLayout807.xml"/><Relationship Id="rId8" Type="http://schemas.openxmlformats.org/officeDocument/2006/relationships/slideLayout" Target="../slideLayouts/slideLayout808.xml"/><Relationship Id="rId9" Type="http://schemas.openxmlformats.org/officeDocument/2006/relationships/slideLayout" Target="../slideLayouts/slideLayout809.xml"/><Relationship Id="rId10" Type="http://schemas.openxmlformats.org/officeDocument/2006/relationships/slideLayout" Target="../slideLayouts/slideLayout810.xml"/><Relationship Id="rId11" Type="http://schemas.openxmlformats.org/officeDocument/2006/relationships/slideLayout" Target="../slideLayouts/slideLayout811.xml"/><Relationship Id="rId12" Type="http://schemas.openxmlformats.org/officeDocument/2006/relationships/slideLayout" Target="../slideLayouts/slideLayout812.xml"/><Relationship Id="rId13" Type="http://schemas.openxmlformats.org/officeDocument/2006/relationships/slideLayout" Target="../slideLayouts/slideLayout813.xml"/><Relationship Id="rId14" Type="http://schemas.openxmlformats.org/officeDocument/2006/relationships/slideLayout" Target="../slideLayouts/slideLayout814.xml"/><Relationship Id="rId15" Type="http://schemas.openxmlformats.org/officeDocument/2006/relationships/slideLayout" Target="../slideLayouts/slideLayout815.xml"/><Relationship Id="rId16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17.xml"/><Relationship Id="rId6" Type="http://schemas.openxmlformats.org/officeDocument/2006/relationships/slideLayout" Target="../slideLayouts/slideLayout818.xml"/><Relationship Id="rId7" Type="http://schemas.openxmlformats.org/officeDocument/2006/relationships/slideLayout" Target="../slideLayouts/slideLayout819.xml"/><Relationship Id="rId8" Type="http://schemas.openxmlformats.org/officeDocument/2006/relationships/slideLayout" Target="../slideLayouts/slideLayout820.xml"/><Relationship Id="rId9" Type="http://schemas.openxmlformats.org/officeDocument/2006/relationships/slideLayout" Target="../slideLayouts/slideLayout821.xml"/><Relationship Id="rId10" Type="http://schemas.openxmlformats.org/officeDocument/2006/relationships/slideLayout" Target="../slideLayouts/slideLayout822.xml"/><Relationship Id="rId11" Type="http://schemas.openxmlformats.org/officeDocument/2006/relationships/slideLayout" Target="../slideLayouts/slideLayout823.xml"/><Relationship Id="rId12" Type="http://schemas.openxmlformats.org/officeDocument/2006/relationships/slideLayout" Target="../slideLayouts/slideLayout824.xml"/><Relationship Id="rId13" Type="http://schemas.openxmlformats.org/officeDocument/2006/relationships/slideLayout" Target="../slideLayouts/slideLayout825.xml"/><Relationship Id="rId14" Type="http://schemas.openxmlformats.org/officeDocument/2006/relationships/slideLayout" Target="../slideLayouts/slideLayout826.xml"/><Relationship Id="rId15" Type="http://schemas.openxmlformats.org/officeDocument/2006/relationships/slideLayout" Target="../slideLayouts/slideLayout827.xml"/><Relationship Id="rId16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29.xml"/><Relationship Id="rId6" Type="http://schemas.openxmlformats.org/officeDocument/2006/relationships/slideLayout" Target="../slideLayouts/slideLayout830.xml"/><Relationship Id="rId7" Type="http://schemas.openxmlformats.org/officeDocument/2006/relationships/slideLayout" Target="../slideLayouts/slideLayout831.xml"/><Relationship Id="rId8" Type="http://schemas.openxmlformats.org/officeDocument/2006/relationships/slideLayout" Target="../slideLayouts/slideLayout832.xml"/><Relationship Id="rId9" Type="http://schemas.openxmlformats.org/officeDocument/2006/relationships/slideLayout" Target="../slideLayouts/slideLayout833.xml"/><Relationship Id="rId10" Type="http://schemas.openxmlformats.org/officeDocument/2006/relationships/slideLayout" Target="../slideLayouts/slideLayout834.xml"/><Relationship Id="rId11" Type="http://schemas.openxmlformats.org/officeDocument/2006/relationships/slideLayout" Target="../slideLayouts/slideLayout835.xml"/><Relationship Id="rId12" Type="http://schemas.openxmlformats.org/officeDocument/2006/relationships/slideLayout" Target="../slideLayouts/slideLayout836.xml"/><Relationship Id="rId13" Type="http://schemas.openxmlformats.org/officeDocument/2006/relationships/slideLayout" Target="../slideLayouts/slideLayout837.xml"/><Relationship Id="rId14" Type="http://schemas.openxmlformats.org/officeDocument/2006/relationships/slideLayout" Target="../slideLayouts/slideLayout838.xml"/><Relationship Id="rId15" Type="http://schemas.openxmlformats.org/officeDocument/2006/relationships/slideLayout" Target="../slideLayouts/slideLayout839.xml"/><Relationship Id="rId16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41.xml"/><Relationship Id="rId6" Type="http://schemas.openxmlformats.org/officeDocument/2006/relationships/slideLayout" Target="../slideLayouts/slideLayout842.xml"/><Relationship Id="rId7" Type="http://schemas.openxmlformats.org/officeDocument/2006/relationships/slideLayout" Target="../slideLayouts/slideLayout843.xml"/><Relationship Id="rId8" Type="http://schemas.openxmlformats.org/officeDocument/2006/relationships/slideLayout" Target="../slideLayouts/slideLayout844.xml"/><Relationship Id="rId9" Type="http://schemas.openxmlformats.org/officeDocument/2006/relationships/slideLayout" Target="../slideLayouts/slideLayout845.xml"/><Relationship Id="rId10" Type="http://schemas.openxmlformats.org/officeDocument/2006/relationships/slideLayout" Target="../slideLayouts/slideLayout846.xml"/><Relationship Id="rId11" Type="http://schemas.openxmlformats.org/officeDocument/2006/relationships/slideLayout" Target="../slideLayouts/slideLayout847.xml"/><Relationship Id="rId12" Type="http://schemas.openxmlformats.org/officeDocument/2006/relationships/slideLayout" Target="../slideLayouts/slideLayout848.xml"/><Relationship Id="rId13" Type="http://schemas.openxmlformats.org/officeDocument/2006/relationships/slideLayout" Target="../slideLayouts/slideLayout849.xml"/><Relationship Id="rId14" Type="http://schemas.openxmlformats.org/officeDocument/2006/relationships/slideLayout" Target="../slideLayouts/slideLayout850.xml"/><Relationship Id="rId15" Type="http://schemas.openxmlformats.org/officeDocument/2006/relationships/slideLayout" Target="../slideLayouts/slideLayout851.xml"/><Relationship Id="rId16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68D0-0E1E-43A5-AF80-D31A7BEAF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dt" idx="28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ftr" idx="29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30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00CECBE9-2181-4001-8F07-812A92693B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dt" idx="3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ftr" idx="3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3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8F64FF0B-D64B-48CF-BAE3-A86D4D3C2E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dt" idx="3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ftr" idx="3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3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26CEE3EC-B912-40B7-8497-4CDA61F492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dt" idx="3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ftr" idx="3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3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FE9CC933-A202-4912-8A9C-23A9F5AAF0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9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dt" idx="4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ftr" idx="4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Num" idx="4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0B73AE91-5E0F-4940-8B31-893B9C759F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3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dt" idx="4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ftr" idx="4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4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F133C21A-B960-4FF8-B2EE-832505FDE3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8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688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dt" idx="4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ftr" idx="4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4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76D5C66A-A8BB-42C8-9204-EF70554413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2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dt" idx="49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ftr" idx="50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51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439F5825-ECDE-4A0F-9430-E530938475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7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dt" idx="52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ftr" idx="53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54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6C35E63E-D1F1-402C-B593-CBF9AAC677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dt" idx="55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ftr" idx="56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sldNum" idx="57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D9125D12-828E-46D8-AC02-CC28457F1B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6E36-F47B-40A4-867C-CA6FF5F39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2" descr="C:\Users\刘鸿霞\Desktop\天融信LOGO.png"/>
          <p:cNvPicPr/>
          <p:nvPr/>
        </p:nvPicPr>
        <p:blipFill>
          <a:blip r:embed="rId3"/>
          <a:stretch/>
        </p:blipFill>
        <p:spPr>
          <a:xfrm>
            <a:off x="7812000" y="-42840"/>
            <a:ext cx="1224000" cy="627120"/>
          </a:xfrm>
          <a:prstGeom prst="rect">
            <a:avLst/>
          </a:prstGeom>
          <a:ln w="0">
            <a:noFill/>
          </a:ln>
        </p:spPr>
      </p:pic>
      <p:sp>
        <p:nvSpPr>
          <p:cNvPr id="53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6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dt" idx="58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ftr" idx="59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sldNum" idx="60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2B065C8F-3E74-4209-BD7A-FB272ED9CE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dt" idx="6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ftr" idx="6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6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C40542EF-2AD3-418D-91CF-97C7C00A7C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5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dt" idx="6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ftr" idx="6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sldNum" idx="6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19B1B8BF-4687-4C9A-A502-97CF835F2F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0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dt" idx="6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ftr" idx="6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sldNum" idx="6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C956A889-B8A4-47A1-BC9D-1D23C8B2A1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5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057" name="PlaceHolder 1"/>
          <p:cNvSpPr>
            <a:spLocks noGrp="1"/>
          </p:cNvSpPr>
          <p:nvPr>
            <p:ph type="dt" idx="7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ftr" idx="7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sldNum" idx="7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8916A449-A7CD-4BE6-9368-AB1FDD4163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9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103" name="PlaceHolder 1"/>
          <p:cNvSpPr>
            <a:spLocks noGrp="1"/>
          </p:cNvSpPr>
          <p:nvPr>
            <p:ph type="dt" idx="7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ftr" idx="7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sldNum" idx="7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A335FEBF-80EF-4B58-A082-3BC2F744E6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148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dt" idx="7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ftr" idx="7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7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9132B5A6-B314-4330-920C-C438F852A1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8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194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195" name="PlaceHolder 1"/>
          <p:cNvSpPr>
            <a:spLocks noGrp="1"/>
          </p:cNvSpPr>
          <p:nvPr>
            <p:ph type="dt" idx="79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ftr" idx="80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sldNum" idx="81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2E3F0C50-E257-45F1-9E8A-1501580CF0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3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240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241" name="PlaceHolder 1"/>
          <p:cNvSpPr>
            <a:spLocks noGrp="1"/>
          </p:cNvSpPr>
          <p:nvPr>
            <p:ph type="dt" idx="82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ftr" idx="83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sldNum" idx="84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06E1FDB1-3F01-4CF9-A290-DC3526103A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8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286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287" name="PlaceHolder 1"/>
          <p:cNvSpPr>
            <a:spLocks noGrp="1"/>
          </p:cNvSpPr>
          <p:nvPr>
            <p:ph type="dt" idx="85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ftr" idx="86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sldNum" idx="87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06D64D36-999C-46FC-A5C7-556DE37E11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8F59-4CC6-4598-A65C-6A06DB641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2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333" name="PlaceHolder 1"/>
          <p:cNvSpPr>
            <a:spLocks noGrp="1"/>
          </p:cNvSpPr>
          <p:nvPr>
            <p:ph type="dt" idx="88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ftr" idx="89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sldNum" idx="90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FB9A3E14-87F6-4EEF-8587-76D086792D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7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dt" idx="9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ftr" idx="9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sldNum" idx="9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EE96B6C5-986C-4DB0-8FB0-5C41EB58C4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1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dt" idx="9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ftr" idx="9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sldNum" idx="9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B602A0F2-79D4-4B4E-9A65-7BC1E506F2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6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dt" idx="9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ftr" idx="9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sldNum" idx="9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6339A0EE-C99E-4589-B772-E1C54C2562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1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516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517" name="PlaceHolder 1"/>
          <p:cNvSpPr>
            <a:spLocks noGrp="1"/>
          </p:cNvSpPr>
          <p:nvPr>
            <p:ph type="dt" idx="10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ftr" idx="10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sldNum" idx="10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E24B6312-78FA-472D-8111-48BA05961B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5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562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563" name="PlaceHolder 1"/>
          <p:cNvSpPr>
            <a:spLocks noGrp="1"/>
          </p:cNvSpPr>
          <p:nvPr>
            <p:ph type="dt" idx="10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ftr" idx="10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 type="sldNum" idx="10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AD835C28-9B32-47A7-BD33-76A5488554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0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608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609" name="PlaceHolder 1"/>
          <p:cNvSpPr>
            <a:spLocks noGrp="1"/>
          </p:cNvSpPr>
          <p:nvPr>
            <p:ph type="dt" idx="10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ftr" idx="10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sldNum" idx="10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F095F19D-4B46-4440-AE17-3D50C0DEC1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4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654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1655" name="PlaceHolder 1"/>
          <p:cNvSpPr>
            <a:spLocks noGrp="1"/>
          </p:cNvSpPr>
          <p:nvPr>
            <p:ph type="dt" idx="109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ftr" idx="110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 type="sldNum" idx="111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71FE7E98-C1FA-4F81-9A63-B72F1B6B8DEE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9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700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1701" name="PlaceHolder 1"/>
          <p:cNvSpPr>
            <a:spLocks noGrp="1"/>
          </p:cNvSpPr>
          <p:nvPr>
            <p:ph type="dt" idx="112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ftr" idx="113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 type="sldNum" idx="114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CF531EA8-F321-49C0-87A7-64A5268171F0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4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746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1747" name="PlaceHolder 1"/>
          <p:cNvSpPr>
            <a:spLocks noGrp="1"/>
          </p:cNvSpPr>
          <p:nvPr>
            <p:ph type="dt" idx="115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ftr" idx="116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 type="sldNum" idx="117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F18BB231-5751-4DDD-B904-B68A53032FF5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B69A7B3B-139B-4830-9E00-18F643DBB6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8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792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1793" name="PlaceHolder 1"/>
          <p:cNvSpPr>
            <a:spLocks noGrp="1"/>
          </p:cNvSpPr>
          <p:nvPr>
            <p:ph type="dt" idx="118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ftr" idx="119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sldNum" idx="120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E736328C-7C79-46F0-B2BC-2BB2FC38E40F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83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838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1839" name="PlaceHolder 1"/>
          <p:cNvSpPr>
            <a:spLocks noGrp="1"/>
          </p:cNvSpPr>
          <p:nvPr>
            <p:ph type="dt" idx="12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 type="ftr" idx="12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 type="sldNum" idx="12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5704304B-B099-4017-99E8-99441327210A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87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884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1885" name="PlaceHolder 1"/>
          <p:cNvSpPr>
            <a:spLocks noGrp="1"/>
          </p:cNvSpPr>
          <p:nvPr>
            <p:ph type="dt" idx="12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ftr" idx="12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sldNum" idx="12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F491C4E4-969B-4B19-9EC0-75CDF09867BE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2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930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1931" name="PlaceHolder 1"/>
          <p:cNvSpPr>
            <a:spLocks noGrp="1"/>
          </p:cNvSpPr>
          <p:nvPr>
            <p:ph type="dt" idx="12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ftr" idx="12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sldNum" idx="12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615A8BB7-5527-40DC-B503-8246C609B64D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7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976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1977" name="PlaceHolder 1"/>
          <p:cNvSpPr>
            <a:spLocks noGrp="1"/>
          </p:cNvSpPr>
          <p:nvPr>
            <p:ph type="dt" idx="13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ftr" idx="13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sldNum" idx="13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0A5BA9AF-D125-411A-A632-3A7BB5DB9666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1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022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023" name="PlaceHolder 1"/>
          <p:cNvSpPr>
            <a:spLocks noGrp="1"/>
          </p:cNvSpPr>
          <p:nvPr>
            <p:ph type="dt" idx="13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ftr" idx="13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sldNum" idx="13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E75E087B-5005-47B3-B1F3-10891C3E558B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6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068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069" name="PlaceHolder 1"/>
          <p:cNvSpPr>
            <a:spLocks noGrp="1"/>
          </p:cNvSpPr>
          <p:nvPr>
            <p:ph type="dt" idx="13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ftr" idx="13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 type="sldNum" idx="13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B3842FB5-4A6F-4B8E-B33E-C531F6C90CFF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10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114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115" name="PlaceHolder 1"/>
          <p:cNvSpPr>
            <a:spLocks noGrp="1"/>
          </p:cNvSpPr>
          <p:nvPr>
            <p:ph type="dt" idx="139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 type="ftr" idx="140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 type="sldNum" idx="141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104A73EA-9E37-4EBE-896D-6D21B96076E1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5"/>
    <p:sldLayoutId id="2147484248" r:id="rId6"/>
    <p:sldLayoutId id="2147484249" r:id="rId7"/>
    <p:sldLayoutId id="2147484250" r:id="rId8"/>
    <p:sldLayoutId id="2147484251" r:id="rId9"/>
    <p:sldLayoutId id="2147484252" r:id="rId10"/>
    <p:sldLayoutId id="2147484253" r:id="rId11"/>
    <p:sldLayoutId id="2147484254" r:id="rId12"/>
    <p:sldLayoutId id="2147484255" r:id="rId13"/>
    <p:sldLayoutId id="2147484256" r:id="rId14"/>
    <p:sldLayoutId id="2147484257" r:id="rId15"/>
    <p:sldLayoutId id="2147484258" r:id="rId16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15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160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161" name="PlaceHolder 1"/>
          <p:cNvSpPr>
            <a:spLocks noGrp="1"/>
          </p:cNvSpPr>
          <p:nvPr>
            <p:ph type="dt" idx="142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 type="ftr" idx="143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 type="sldNum" idx="144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093F2E12-3AF6-4655-9EFF-200EC556C5D9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20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206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207" name="PlaceHolder 1"/>
          <p:cNvSpPr>
            <a:spLocks noGrp="1"/>
          </p:cNvSpPr>
          <p:nvPr>
            <p:ph type="dt" idx="145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 type="ftr" idx="146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 type="sldNum" idx="147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2DBD6BA4-C151-4722-9592-0E7D9B00C7C6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5"/>
    <p:sldLayoutId id="2147484274" r:id="rId6"/>
    <p:sldLayoutId id="2147484275" r:id="rId7"/>
    <p:sldLayoutId id="2147484276" r:id="rId8"/>
    <p:sldLayoutId id="2147484277" r:id="rId9"/>
    <p:sldLayoutId id="2147484278" r:id="rId10"/>
    <p:sldLayoutId id="2147484279" r:id="rId11"/>
    <p:sldLayoutId id="2147484280" r:id="rId12"/>
    <p:sldLayoutId id="2147484281" r:id="rId13"/>
    <p:sldLayoutId id="2147484282" r:id="rId14"/>
    <p:sldLayoutId id="2147484283" r:id="rId15"/>
    <p:sldLayoutId id="2147484284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D89F2279-4846-4B82-99FC-16960BB570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24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252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253" name="PlaceHolder 1"/>
          <p:cNvSpPr>
            <a:spLocks noGrp="1"/>
          </p:cNvSpPr>
          <p:nvPr>
            <p:ph type="dt" idx="148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ftr" idx="149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sldNum" idx="150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522F971F-A226-4DE2-8908-2D1DCD8322AE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5"/>
    <p:sldLayoutId id="2147484287" r:id="rId6"/>
    <p:sldLayoutId id="2147484288" r:id="rId7"/>
    <p:sldLayoutId id="2147484289" r:id="rId8"/>
    <p:sldLayoutId id="2147484290" r:id="rId9"/>
    <p:sldLayoutId id="2147484291" r:id="rId10"/>
    <p:sldLayoutId id="2147484292" r:id="rId11"/>
    <p:sldLayoutId id="2147484293" r:id="rId12"/>
    <p:sldLayoutId id="2147484294" r:id="rId13"/>
    <p:sldLayoutId id="2147484295" r:id="rId14"/>
    <p:sldLayoutId id="2147484296" r:id="rId15"/>
    <p:sldLayoutId id="2147484297" r:id="rId16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29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298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299" name="PlaceHolder 1"/>
          <p:cNvSpPr>
            <a:spLocks noGrp="1"/>
          </p:cNvSpPr>
          <p:nvPr>
            <p:ph type="dt" idx="15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ftr" idx="15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sldNum" idx="15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FF203C63-0A8B-45DA-BB44-0AB951A0D703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5"/>
    <p:sldLayoutId id="2147484300" r:id="rId6"/>
    <p:sldLayoutId id="2147484301" r:id="rId7"/>
    <p:sldLayoutId id="2147484302" r:id="rId8"/>
    <p:sldLayoutId id="2147484303" r:id="rId9"/>
    <p:sldLayoutId id="2147484304" r:id="rId10"/>
    <p:sldLayoutId id="2147484305" r:id="rId11"/>
    <p:sldLayoutId id="2147484306" r:id="rId12"/>
    <p:sldLayoutId id="2147484307" r:id="rId13"/>
    <p:sldLayoutId id="2147484308" r:id="rId14"/>
    <p:sldLayoutId id="2147484309" r:id="rId15"/>
    <p:sldLayoutId id="2147484310" r:id="rId16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3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344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345" name="PlaceHolder 1"/>
          <p:cNvSpPr>
            <a:spLocks noGrp="1"/>
          </p:cNvSpPr>
          <p:nvPr>
            <p:ph type="dt" idx="15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ftr" idx="15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 type="sldNum" idx="15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79513475-73AB-4F6A-A3C6-C4C9CAFC001B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5"/>
    <p:sldLayoutId id="2147484313" r:id="rId6"/>
    <p:sldLayoutId id="2147484314" r:id="rId7"/>
    <p:sldLayoutId id="2147484315" r:id="rId8"/>
    <p:sldLayoutId id="2147484316" r:id="rId9"/>
    <p:sldLayoutId id="2147484317" r:id="rId10"/>
    <p:sldLayoutId id="2147484318" r:id="rId11"/>
    <p:sldLayoutId id="2147484319" r:id="rId12"/>
    <p:sldLayoutId id="2147484320" r:id="rId13"/>
    <p:sldLayoutId id="2147484321" r:id="rId14"/>
    <p:sldLayoutId id="2147484322" r:id="rId15"/>
    <p:sldLayoutId id="2147484323" r:id="rId16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8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390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391" name="PlaceHolder 1"/>
          <p:cNvSpPr>
            <a:spLocks noGrp="1"/>
          </p:cNvSpPr>
          <p:nvPr>
            <p:ph type="dt" idx="15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 type="ftr" idx="15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 type="sldNum" idx="15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451E70E2-5E7D-4276-A614-2F6F7EB9644B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5"/>
    <p:sldLayoutId id="2147484326" r:id="rId6"/>
    <p:sldLayoutId id="2147484327" r:id="rId7"/>
    <p:sldLayoutId id="2147484328" r:id="rId8"/>
    <p:sldLayoutId id="2147484329" r:id="rId9"/>
    <p:sldLayoutId id="2147484330" r:id="rId10"/>
    <p:sldLayoutId id="2147484331" r:id="rId11"/>
    <p:sldLayoutId id="2147484332" r:id="rId12"/>
    <p:sldLayoutId id="2147484333" r:id="rId13"/>
    <p:sldLayoutId id="2147484334" r:id="rId14"/>
    <p:sldLayoutId id="2147484335" r:id="rId15"/>
    <p:sldLayoutId id="2147484336" r:id="rId16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3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436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dt" idx="16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 type="ftr" idx="16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 type="sldNum" idx="16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801E5FEE-6CF7-4142-9882-9252F36DBB57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7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482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483" name="PlaceHolder 1"/>
          <p:cNvSpPr>
            <a:spLocks noGrp="1"/>
          </p:cNvSpPr>
          <p:nvPr>
            <p:ph type="dt" idx="16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ftr" idx="16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sldNum" idx="16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0DF38E9E-9FF5-4DE0-ABDA-BE4A32B11F3F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52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528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529" name="PlaceHolder 1"/>
          <p:cNvSpPr>
            <a:spLocks noGrp="1"/>
          </p:cNvSpPr>
          <p:nvPr>
            <p:ph type="dt" idx="16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 type="ftr" idx="16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 type="sldNum" idx="16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C3F44287-3DA0-4F3A-ABC3-EFB14B07666F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56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574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575" name="PlaceHolder 1"/>
          <p:cNvSpPr>
            <a:spLocks noGrp="1"/>
          </p:cNvSpPr>
          <p:nvPr>
            <p:ph type="dt" idx="169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 type="ftr" idx="170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 type="sldNum" idx="171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B662CCF7-932B-4635-9D23-37368607135A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61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620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621" name="PlaceHolder 1"/>
          <p:cNvSpPr>
            <a:spLocks noGrp="1"/>
          </p:cNvSpPr>
          <p:nvPr>
            <p:ph type="dt" idx="172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 type="ftr" idx="173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 type="sldNum" idx="174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0AA3A91B-DE44-4941-8984-86BD2C1A2047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66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666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667" name="PlaceHolder 1"/>
          <p:cNvSpPr>
            <a:spLocks noGrp="1"/>
          </p:cNvSpPr>
          <p:nvPr>
            <p:ph type="dt" idx="175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 type="ftr" idx="176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 type="sldNum" idx="177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0580DEC2-B407-4CED-8455-9FB3EBE7F0D4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5"/>
    <p:sldLayoutId id="2147484404" r:id="rId6"/>
    <p:sldLayoutId id="2147484405" r:id="rId7"/>
    <p:sldLayoutId id="2147484406" r:id="rId8"/>
    <p:sldLayoutId id="2147484407" r:id="rId9"/>
    <p:sldLayoutId id="2147484408" r:id="rId10"/>
    <p:sldLayoutId id="2147484409" r:id="rId11"/>
    <p:sldLayoutId id="2147484410" r:id="rId12"/>
    <p:sldLayoutId id="2147484411" r:id="rId13"/>
    <p:sldLayoutId id="2147484412" r:id="rId14"/>
    <p:sldLayoutId id="2147484413" r:id="rId15"/>
    <p:sldLayoutId id="2147484414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2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57515FD5-0B82-4885-BFFF-F5AA648BFE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70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712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713" name="PlaceHolder 1"/>
          <p:cNvSpPr>
            <a:spLocks noGrp="1"/>
          </p:cNvSpPr>
          <p:nvPr>
            <p:ph type="dt" idx="178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 type="ftr" idx="179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 type="sldNum" idx="180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6C0B4985-A1DC-485A-B46C-168A9A653BDB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5"/>
    <p:sldLayoutId id="2147484417" r:id="rId6"/>
    <p:sldLayoutId id="2147484418" r:id="rId7"/>
    <p:sldLayoutId id="2147484419" r:id="rId8"/>
    <p:sldLayoutId id="2147484420" r:id="rId9"/>
    <p:sldLayoutId id="2147484421" r:id="rId10"/>
    <p:sldLayoutId id="2147484422" r:id="rId11"/>
    <p:sldLayoutId id="2147484423" r:id="rId12"/>
    <p:sldLayoutId id="2147484424" r:id="rId13"/>
    <p:sldLayoutId id="2147484425" r:id="rId14"/>
    <p:sldLayoutId id="2147484426" r:id="rId15"/>
    <p:sldLayoutId id="2147484427" r:id="rId16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75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758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759" name="PlaceHolder 1"/>
          <p:cNvSpPr>
            <a:spLocks noGrp="1"/>
          </p:cNvSpPr>
          <p:nvPr>
            <p:ph type="dt" idx="18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 type="ftr" idx="18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 type="sldNum" idx="18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8B1416B1-1350-417C-9E98-1EC8D5718D3A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5"/>
    <p:sldLayoutId id="2147484430" r:id="rId6"/>
    <p:sldLayoutId id="2147484431" r:id="rId7"/>
    <p:sldLayoutId id="2147484432" r:id="rId8"/>
    <p:sldLayoutId id="2147484433" r:id="rId9"/>
    <p:sldLayoutId id="2147484434" r:id="rId10"/>
    <p:sldLayoutId id="2147484435" r:id="rId11"/>
    <p:sldLayoutId id="2147484436" r:id="rId12"/>
    <p:sldLayoutId id="2147484437" r:id="rId13"/>
    <p:sldLayoutId id="2147484438" r:id="rId14"/>
    <p:sldLayoutId id="2147484439" r:id="rId15"/>
    <p:sldLayoutId id="2147484440" r:id="rId16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79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804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805" name="PlaceHolder 1"/>
          <p:cNvSpPr>
            <a:spLocks noGrp="1"/>
          </p:cNvSpPr>
          <p:nvPr>
            <p:ph type="dt" idx="18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ftr" idx="18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 type="sldNum" idx="18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C1C1C2D2-1881-4DB3-834B-D5E6746D82AA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5"/>
    <p:sldLayoutId id="2147484443" r:id="rId6"/>
    <p:sldLayoutId id="2147484444" r:id="rId7"/>
    <p:sldLayoutId id="2147484445" r:id="rId8"/>
    <p:sldLayoutId id="2147484446" r:id="rId9"/>
    <p:sldLayoutId id="2147484447" r:id="rId10"/>
    <p:sldLayoutId id="2147484448" r:id="rId11"/>
    <p:sldLayoutId id="2147484449" r:id="rId12"/>
    <p:sldLayoutId id="2147484450" r:id="rId13"/>
    <p:sldLayoutId id="2147484451" r:id="rId14"/>
    <p:sldLayoutId id="2147484452" r:id="rId15"/>
    <p:sldLayoutId id="2147484453" r:id="rId16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84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850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851" name="PlaceHolder 1"/>
          <p:cNvSpPr>
            <a:spLocks noGrp="1"/>
          </p:cNvSpPr>
          <p:nvPr>
            <p:ph type="dt" idx="18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 type="ftr" idx="18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 type="sldNum" idx="18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7CFED284-1348-4023-9028-5016323FBD33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5"/>
    <p:sldLayoutId id="2147484456" r:id="rId6"/>
    <p:sldLayoutId id="2147484457" r:id="rId7"/>
    <p:sldLayoutId id="2147484458" r:id="rId8"/>
    <p:sldLayoutId id="2147484459" r:id="rId9"/>
    <p:sldLayoutId id="2147484460" r:id="rId10"/>
    <p:sldLayoutId id="2147484461" r:id="rId11"/>
    <p:sldLayoutId id="2147484462" r:id="rId12"/>
    <p:sldLayoutId id="2147484463" r:id="rId13"/>
    <p:sldLayoutId id="2147484464" r:id="rId14"/>
    <p:sldLayoutId id="2147484465" r:id="rId15"/>
    <p:sldLayoutId id="2147484466" r:id="rId16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89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896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897" name="PlaceHolder 1"/>
          <p:cNvSpPr>
            <a:spLocks noGrp="1"/>
          </p:cNvSpPr>
          <p:nvPr>
            <p:ph type="dt" idx="19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 type="ftr" idx="19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 type="sldNum" idx="19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6912F332-AEB4-48FE-8883-80C265849025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5"/>
    <p:sldLayoutId id="2147484469" r:id="rId6"/>
    <p:sldLayoutId id="2147484470" r:id="rId7"/>
    <p:sldLayoutId id="2147484471" r:id="rId8"/>
    <p:sldLayoutId id="2147484472" r:id="rId9"/>
    <p:sldLayoutId id="2147484473" r:id="rId10"/>
    <p:sldLayoutId id="2147484474" r:id="rId11"/>
    <p:sldLayoutId id="2147484475" r:id="rId12"/>
    <p:sldLayoutId id="2147484476" r:id="rId13"/>
    <p:sldLayoutId id="2147484477" r:id="rId14"/>
    <p:sldLayoutId id="2147484478" r:id="rId15"/>
    <p:sldLayoutId id="2147484479" r:id="rId16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93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942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943" name="PlaceHolder 1"/>
          <p:cNvSpPr>
            <a:spLocks noGrp="1"/>
          </p:cNvSpPr>
          <p:nvPr>
            <p:ph type="dt" idx="19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 type="ftr" idx="19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 type="sldNum" idx="19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2706C030-0A43-4F05-ACA9-F897FCE0D23C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5"/>
    <p:sldLayoutId id="2147484482" r:id="rId6"/>
    <p:sldLayoutId id="2147484483" r:id="rId7"/>
    <p:sldLayoutId id="2147484484" r:id="rId8"/>
    <p:sldLayoutId id="2147484485" r:id="rId9"/>
    <p:sldLayoutId id="2147484486" r:id="rId10"/>
    <p:sldLayoutId id="2147484487" r:id="rId11"/>
    <p:sldLayoutId id="2147484488" r:id="rId12"/>
    <p:sldLayoutId id="2147484489" r:id="rId13"/>
    <p:sldLayoutId id="2147484490" r:id="rId14"/>
    <p:sldLayoutId id="2147484491" r:id="rId15"/>
    <p:sldLayoutId id="2147484492" r:id="rId16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98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7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988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2989" name="PlaceHolder 1"/>
          <p:cNvSpPr>
            <a:spLocks noGrp="1"/>
          </p:cNvSpPr>
          <p:nvPr>
            <p:ph type="dt" idx="19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 type="ftr" idx="19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 type="sldNum" idx="19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CA3EBFB7-CE9C-43CE-9392-A196131A339E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5"/>
    <p:sldLayoutId id="2147484495" r:id="rId6"/>
    <p:sldLayoutId id="2147484496" r:id="rId7"/>
    <p:sldLayoutId id="2147484497" r:id="rId8"/>
    <p:sldLayoutId id="2147484498" r:id="rId9"/>
    <p:sldLayoutId id="2147484499" r:id="rId10"/>
    <p:sldLayoutId id="2147484500" r:id="rId11"/>
    <p:sldLayoutId id="2147484501" r:id="rId12"/>
    <p:sldLayoutId id="2147484502" r:id="rId13"/>
    <p:sldLayoutId id="2147484503" r:id="rId14"/>
    <p:sldLayoutId id="2147484504" r:id="rId15"/>
    <p:sldLayoutId id="2147484505" r:id="rId16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02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3034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3035" name="PlaceHolder 1"/>
          <p:cNvSpPr>
            <a:spLocks noGrp="1"/>
          </p:cNvSpPr>
          <p:nvPr>
            <p:ph type="dt" idx="199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 type="ftr" idx="200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 type="sldNum" idx="201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08B807EB-F312-4E2A-A27A-43FEB3189FFF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5"/>
    <p:sldLayoutId id="2147484508" r:id="rId6"/>
    <p:sldLayoutId id="2147484509" r:id="rId7"/>
    <p:sldLayoutId id="2147484510" r:id="rId8"/>
    <p:sldLayoutId id="2147484511" r:id="rId9"/>
    <p:sldLayoutId id="2147484512" r:id="rId10"/>
    <p:sldLayoutId id="2147484513" r:id="rId11"/>
    <p:sldLayoutId id="2147484514" r:id="rId12"/>
    <p:sldLayoutId id="2147484515" r:id="rId13"/>
    <p:sldLayoutId id="2147484516" r:id="rId14"/>
    <p:sldLayoutId id="2147484517" r:id="rId15"/>
    <p:sldLayoutId id="2147484518" r:id="rId16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07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3080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3081" name="PlaceHolder 1"/>
          <p:cNvSpPr>
            <a:spLocks noGrp="1"/>
          </p:cNvSpPr>
          <p:nvPr>
            <p:ph type="dt" idx="202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 type="ftr" idx="203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 type="sldNum" idx="204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75F4A131-91B7-4E87-8933-AA1DA4AF0D34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5"/>
    <p:sldLayoutId id="2147484521" r:id="rId6"/>
    <p:sldLayoutId id="2147484522" r:id="rId7"/>
    <p:sldLayoutId id="2147484523" r:id="rId8"/>
    <p:sldLayoutId id="2147484524" r:id="rId9"/>
    <p:sldLayoutId id="2147484525" r:id="rId10"/>
    <p:sldLayoutId id="2147484526" r:id="rId11"/>
    <p:sldLayoutId id="2147484527" r:id="rId12"/>
    <p:sldLayoutId id="2147484528" r:id="rId13"/>
    <p:sldLayoutId id="2147484529" r:id="rId14"/>
    <p:sldLayoutId id="2147484530" r:id="rId15"/>
    <p:sldLayoutId id="2147484531" r:id="rId16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12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3126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3127" name="PlaceHolder 1"/>
          <p:cNvSpPr>
            <a:spLocks noGrp="1"/>
          </p:cNvSpPr>
          <p:nvPr>
            <p:ph type="dt" idx="205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 type="ftr" idx="206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 type="sldNum" idx="207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CB31E539-89A5-4C72-9A8F-BD11198C1FBE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5"/>
    <p:sldLayoutId id="2147484534" r:id="rId6"/>
    <p:sldLayoutId id="2147484535" r:id="rId7"/>
    <p:sldLayoutId id="2147484536" r:id="rId8"/>
    <p:sldLayoutId id="2147484537" r:id="rId9"/>
    <p:sldLayoutId id="2147484538" r:id="rId10"/>
    <p:sldLayoutId id="2147484539" r:id="rId11"/>
    <p:sldLayoutId id="2147484540" r:id="rId12"/>
    <p:sldLayoutId id="2147484541" r:id="rId13"/>
    <p:sldLayoutId id="2147484542" r:id="rId14"/>
    <p:sldLayoutId id="2147484543" r:id="rId15"/>
    <p:sldLayoutId id="2147484544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6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dt" idx="19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20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21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8CE7CA2A-D938-4304-A817-7FF16CFEC2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6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167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1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3172" name="图片 11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3173" name="PlaceHolder 1"/>
          <p:cNvSpPr>
            <a:spLocks noGrp="1"/>
          </p:cNvSpPr>
          <p:nvPr>
            <p:ph type="dt" idx="208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 type="ftr" idx="209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 type="sldNum" idx="210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第 </a:t>
            </a:r>
            <a:fld id="{2ED4DDCA-2056-438E-8349-C62EEAC70710}" type="slidenum"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636363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5"/>
    <p:sldLayoutId id="2147484547" r:id="rId6"/>
    <p:sldLayoutId id="2147484548" r:id="rId7"/>
    <p:sldLayoutId id="2147484549" r:id="rId8"/>
    <p:sldLayoutId id="2147484550" r:id="rId9"/>
    <p:sldLayoutId id="2147484551" r:id="rId10"/>
    <p:sldLayoutId id="2147484552" r:id="rId11"/>
    <p:sldLayoutId id="2147484553" r:id="rId12"/>
    <p:sldLayoutId id="2147484554" r:id="rId13"/>
    <p:sldLayoutId id="2147484555" r:id="rId14"/>
    <p:sldLayoutId id="2147484556" r:id="rId15"/>
    <p:sldLayoutId id="2147484557" r:id="rId16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2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213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6" name="Picture 72" descr="C:\Users\刘鸿霞\Desktop\天融信LOGO.png"/>
          <p:cNvPicPr/>
          <p:nvPr/>
        </p:nvPicPr>
        <p:blipFill>
          <a:blip r:embed="rId3"/>
          <a:stretch/>
        </p:blipFill>
        <p:spPr>
          <a:xfrm>
            <a:off x="7812000" y="-42840"/>
            <a:ext cx="1224000" cy="627120"/>
          </a:xfrm>
          <a:prstGeom prst="rect">
            <a:avLst/>
          </a:prstGeom>
          <a:ln w="0">
            <a:noFill/>
          </a:ln>
        </p:spPr>
      </p:pic>
      <p:sp>
        <p:nvSpPr>
          <p:cNvPr id="3217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8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3219" name="PlaceHolder 1"/>
          <p:cNvSpPr>
            <a:spLocks noGrp="1"/>
          </p:cNvSpPr>
          <p:nvPr>
            <p:ph type="dt" idx="21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 type="ftr" idx="21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 type="sldNum" idx="21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F6F2FCCD-7361-40F6-BAF8-C16B5E5F0F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5"/>
    <p:sldLayoutId id="2147484560" r:id="rId6"/>
    <p:sldLayoutId id="2147484561" r:id="rId7"/>
    <p:sldLayoutId id="2147484562" r:id="rId8"/>
    <p:sldLayoutId id="2147484563" r:id="rId9"/>
    <p:sldLayoutId id="2147484564" r:id="rId10"/>
    <p:sldLayoutId id="2147484565" r:id="rId11"/>
    <p:sldLayoutId id="2147484566" r:id="rId12"/>
    <p:sldLayoutId id="2147484567" r:id="rId13"/>
    <p:sldLayoutId id="2147484568" r:id="rId14"/>
    <p:sldLayoutId id="2147484569" r:id="rId15"/>
    <p:sldLayoutId id="2147484570" r:id="rId16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8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259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2" name="Picture 72" descr="C:\Users\刘鸿霞\Desktop\天融信LOGO.png"/>
          <p:cNvPicPr/>
          <p:nvPr/>
        </p:nvPicPr>
        <p:blipFill>
          <a:blip r:embed="rId3"/>
          <a:stretch/>
        </p:blipFill>
        <p:spPr>
          <a:xfrm>
            <a:off x="7812000" y="-42840"/>
            <a:ext cx="1224000" cy="627120"/>
          </a:xfrm>
          <a:prstGeom prst="rect">
            <a:avLst/>
          </a:prstGeom>
          <a:ln w="0">
            <a:noFill/>
          </a:ln>
        </p:spPr>
      </p:pic>
      <p:sp>
        <p:nvSpPr>
          <p:cNvPr id="3263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1"/>
          <p:cNvSpPr>
            <a:spLocks noGrp="1"/>
          </p:cNvSpPr>
          <p:nvPr>
            <p:ph type="dt" idx="21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ftr" idx="21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 type="sldNum" idx="21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1694-2152-4DBC-88FD-B3A9CFEFF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3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304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7" name="Picture 72" descr="C:\Users\刘鸿霞\Desktop\天融信LOGO.png"/>
          <p:cNvPicPr/>
          <p:nvPr/>
        </p:nvPicPr>
        <p:blipFill>
          <a:blip r:embed="rId3"/>
          <a:stretch/>
        </p:blipFill>
        <p:spPr>
          <a:xfrm>
            <a:off x="7812000" y="-42840"/>
            <a:ext cx="1224000" cy="627120"/>
          </a:xfrm>
          <a:prstGeom prst="rect">
            <a:avLst/>
          </a:prstGeom>
          <a:ln w="0">
            <a:noFill/>
          </a:ln>
        </p:spPr>
      </p:pic>
      <p:sp>
        <p:nvSpPr>
          <p:cNvPr id="330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1"/>
          <p:cNvSpPr>
            <a:spLocks noGrp="1"/>
          </p:cNvSpPr>
          <p:nvPr>
            <p:ph type="dt" idx="21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 type="ftr" idx="21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 type="sldNum" idx="21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1D58-4596-4D57-A674-CAB864253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15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dt" idx="22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23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24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CD84C94E-0408-441B-8123-EF623EDDE6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C:\Documents and Settings\Administrator\桌面\2012素材\2012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61" name="直接连接符 5"/>
          <p:cNvSpPr/>
          <p:nvPr/>
        </p:nvSpPr>
        <p:spPr>
          <a:xfrm flipV="1">
            <a:off x="-74520" y="588600"/>
            <a:ext cx="9240840" cy="32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6"/>
          <p:cNvSpPr/>
          <p:nvPr/>
        </p:nvSpPr>
        <p:spPr>
          <a:xfrm>
            <a:off x="-39600" y="469800"/>
            <a:ext cx="9212040" cy="0"/>
          </a:xfrm>
          <a:prstGeom prst="line">
            <a:avLst/>
          </a:prstGeom>
          <a:ln w="1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7"/>
          <p:cNvSpPr/>
          <p:nvPr/>
        </p:nvSpPr>
        <p:spPr>
          <a:xfrm flipV="1">
            <a:off x="-28440" y="569520"/>
            <a:ext cx="9240840" cy="3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0"/>
          <p:cNvSpPr/>
          <p:nvPr/>
        </p:nvSpPr>
        <p:spPr>
          <a:xfrm>
            <a:off x="-39600" y="169920"/>
            <a:ext cx="71280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片 11" descr="1.jpg"/>
          <p:cNvPicPr/>
          <p:nvPr/>
        </p:nvPicPr>
        <p:blipFill>
          <a:blip r:embed="rId3"/>
          <a:stretch/>
        </p:blipFill>
        <p:spPr>
          <a:xfrm>
            <a:off x="7929720" y="0"/>
            <a:ext cx="1214280" cy="50004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7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10638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dt" idx="25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ftr" idx="26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27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 </a:t>
            </a:r>
            <a:fld id="{6E37A26D-2BAA-4150-8490-EB5A2567FF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6559.com.cn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8" name="Picture 3" descr="C:\Documents and Settings\Administrator\桌面\2012素材\2012-1.jpg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3349" name="Rectangle 3"/>
          <p:cNvSpPr/>
          <p:nvPr/>
        </p:nvSpPr>
        <p:spPr>
          <a:xfrm>
            <a:off x="3286080" y="1635120"/>
            <a:ext cx="5823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访客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计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客营销软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Line 5"/>
          <p:cNvSpPr/>
          <p:nvPr/>
        </p:nvSpPr>
        <p:spPr>
          <a:xfrm>
            <a:off x="3708360" y="2913120"/>
            <a:ext cx="460872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1" name=""/>
          <p:cNvGrpSpPr/>
          <p:nvPr/>
        </p:nvGrpSpPr>
        <p:grpSpPr>
          <a:xfrm>
            <a:off x="3860640" y="1563840"/>
            <a:ext cx="292320" cy="279360"/>
            <a:chOff x="3860640" y="1563840"/>
            <a:chExt cx="292320" cy="279360"/>
          </a:xfrm>
        </p:grpSpPr>
        <p:sp>
          <p:nvSpPr>
            <p:cNvPr id="3352" name="椭圆 37"/>
            <p:cNvSpPr/>
            <p:nvPr/>
          </p:nvSpPr>
          <p:spPr>
            <a:xfrm>
              <a:off x="3860640" y="1563840"/>
              <a:ext cx="292320" cy="279360"/>
            </a:xfrm>
            <a:prstGeom prst="ellipse">
              <a:avLst/>
            </a:prstGeom>
            <a:solidFill>
              <a:srgbClr val="ff7d7d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椭圆 38"/>
            <p:cNvSpPr/>
            <p:nvPr/>
          </p:nvSpPr>
          <p:spPr>
            <a:xfrm>
              <a:off x="3920760" y="1620720"/>
              <a:ext cx="171720" cy="165240"/>
            </a:xfrm>
            <a:prstGeom prst="ellipse">
              <a:avLst/>
            </a:prstGeom>
            <a:solidFill>
              <a:srgbClr val="ff7d7d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4" name="任意多边形 40"/>
          <p:cNvSpPr/>
          <p:nvPr/>
        </p:nvSpPr>
        <p:spPr>
          <a:xfrm>
            <a:off x="3778200" y="576360"/>
            <a:ext cx="2347920" cy="995400"/>
          </a:xfrm>
          <a:prstGeom prst="pie">
            <a:avLst/>
          </a:prstGeom>
          <a:noFill/>
          <a:ln w="3240">
            <a:solidFill>
              <a:srgbClr val="ff9797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任意多边形 41"/>
          <p:cNvSpPr/>
          <p:nvPr/>
        </p:nvSpPr>
        <p:spPr>
          <a:xfrm>
            <a:off x="3805200" y="1214280"/>
            <a:ext cx="4189320" cy="749520"/>
          </a:xfrm>
          <a:prstGeom prst="pie">
            <a:avLst/>
          </a:prstGeom>
          <a:noFill/>
          <a:ln w="3240">
            <a:solidFill>
              <a:srgbClr val="ff9797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任意多边形 42"/>
          <p:cNvSpPr/>
          <p:nvPr/>
        </p:nvSpPr>
        <p:spPr>
          <a:xfrm>
            <a:off x="3286080" y="654120"/>
            <a:ext cx="441360" cy="919080"/>
          </a:xfrm>
          <a:prstGeom prst="pie">
            <a:avLst/>
          </a:prstGeom>
          <a:noFill/>
          <a:ln w="3240">
            <a:solidFill>
              <a:srgbClr val="ff9797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任意多边形 43"/>
          <p:cNvSpPr/>
          <p:nvPr/>
        </p:nvSpPr>
        <p:spPr>
          <a:xfrm>
            <a:off x="687240" y="577800"/>
            <a:ext cx="2981520" cy="984240"/>
          </a:xfrm>
          <a:prstGeom prst="pie">
            <a:avLst/>
          </a:prstGeom>
          <a:noFill/>
          <a:ln w="3240">
            <a:solidFill>
              <a:srgbClr val="ff9797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任意多边形 44"/>
          <p:cNvSpPr/>
          <p:nvPr/>
        </p:nvSpPr>
        <p:spPr>
          <a:xfrm>
            <a:off x="189000" y="1285920"/>
            <a:ext cx="3448080" cy="760320"/>
          </a:xfrm>
          <a:prstGeom prst="pie">
            <a:avLst/>
          </a:prstGeom>
          <a:noFill/>
          <a:ln w="3240">
            <a:solidFill>
              <a:srgbClr val="ff9797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任意多边形 45"/>
          <p:cNvSpPr/>
          <p:nvPr/>
        </p:nvSpPr>
        <p:spPr>
          <a:xfrm>
            <a:off x="2660760" y="1681200"/>
            <a:ext cx="1001520" cy="628560"/>
          </a:xfrm>
          <a:prstGeom prst="pie">
            <a:avLst/>
          </a:prstGeom>
          <a:noFill/>
          <a:ln w="3240">
            <a:solidFill>
              <a:srgbClr val="ff9797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任意多边形 46"/>
          <p:cNvSpPr/>
          <p:nvPr/>
        </p:nvSpPr>
        <p:spPr>
          <a:xfrm>
            <a:off x="4003560" y="1784520"/>
            <a:ext cx="12960" cy="684000"/>
          </a:xfrm>
          <a:prstGeom prst="pie">
            <a:avLst/>
          </a:prstGeom>
          <a:noFill/>
          <a:ln w="3240">
            <a:solidFill>
              <a:srgbClr val="ff9797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任意多边形 47"/>
          <p:cNvSpPr/>
          <p:nvPr/>
        </p:nvSpPr>
        <p:spPr>
          <a:xfrm>
            <a:off x="4064040" y="1752480"/>
            <a:ext cx="2158920" cy="752760"/>
          </a:xfrm>
          <a:prstGeom prst="pie">
            <a:avLst/>
          </a:prstGeom>
          <a:noFill/>
          <a:ln w="3240">
            <a:solidFill>
              <a:srgbClr val="ff9797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TextBox 1"/>
          <p:cNvSpPr/>
          <p:nvPr/>
        </p:nvSpPr>
        <p:spPr>
          <a:xfrm>
            <a:off x="-639720" y="2695680"/>
            <a:ext cx="47116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3" name="" descr=""/>
          <p:cNvPicPr/>
          <p:nvPr/>
        </p:nvPicPr>
        <p:blipFill>
          <a:blip r:embed="rId2"/>
          <a:stretch/>
        </p:blipFill>
        <p:spPr>
          <a:xfrm>
            <a:off x="108000" y="1924200"/>
            <a:ext cx="3913200" cy="934920"/>
          </a:xfrm>
          <a:prstGeom prst="rect">
            <a:avLst/>
          </a:prstGeom>
          <a:ln w="0">
            <a:noFill/>
          </a:ln>
        </p:spPr>
      </p:pic>
      <p:sp>
        <p:nvSpPr>
          <p:cNvPr id="3364" name=""/>
          <p:cNvSpPr/>
          <p:nvPr/>
        </p:nvSpPr>
        <p:spPr>
          <a:xfrm>
            <a:off x="36360" y="3076560"/>
            <a:ext cx="9109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粗倩简体"/>
              </a:rPr>
              <a:t>官方网站： </a:t>
            </a:r>
            <a:r>
              <a:rPr b="0" lang="zh-CN" sz="1800" spc="-1" strike="noStrike">
                <a:solidFill>
                  <a:srgbClr val="ffffff"/>
                </a:solidFill>
                <a:latin typeface="方正粗倩简体"/>
              </a:rPr>
              <a:t>www.sike8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714240" y="36360"/>
            <a:ext cx="5802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我们的客户到哪里去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6" name="图片 25" descr="产品描述1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2697120"/>
          </a:xfrm>
          <a:prstGeom prst="rect">
            <a:avLst/>
          </a:prstGeom>
          <a:ln w="0">
            <a:noFill/>
          </a:ln>
        </p:spPr>
      </p:pic>
      <p:pic>
        <p:nvPicPr>
          <p:cNvPr id="3367" name="图片 26" descr="产品描述2.jpg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标题 1"/>
          <p:cNvSpPr/>
          <p:nvPr/>
        </p:nvSpPr>
        <p:spPr>
          <a:xfrm>
            <a:off x="714240" y="36360"/>
            <a:ext cx="580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9" name="Picture 4" descr="9246596551378957115671.png"/>
          <p:cNvPicPr/>
          <p:nvPr/>
        </p:nvPicPr>
        <p:blipFill>
          <a:blip r:embed="rId1"/>
          <a:stretch/>
        </p:blipFill>
        <p:spPr>
          <a:xfrm>
            <a:off x="6070680" y="3414600"/>
            <a:ext cx="47520" cy="28800"/>
          </a:xfrm>
          <a:prstGeom prst="rect">
            <a:avLst/>
          </a:prstGeom>
          <a:ln w="0">
            <a:noFill/>
          </a:ln>
        </p:spPr>
      </p:pic>
      <p:sp>
        <p:nvSpPr>
          <p:cNvPr id="3370" name="Text Box 5"/>
          <p:cNvSpPr/>
          <p:nvPr/>
        </p:nvSpPr>
        <p:spPr>
          <a:xfrm>
            <a:off x="948600" y="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一、产品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1" name="Picture 6" descr="9246596551378957115671.png"/>
          <p:cNvPicPr/>
          <p:nvPr/>
        </p:nvPicPr>
        <p:blipFill>
          <a:blip r:embed="rId2"/>
          <a:stretch/>
        </p:blipFill>
        <p:spPr>
          <a:xfrm>
            <a:off x="6070680" y="3414600"/>
            <a:ext cx="47520" cy="28800"/>
          </a:xfrm>
          <a:prstGeom prst="rect">
            <a:avLst/>
          </a:prstGeom>
          <a:ln w="0">
            <a:noFill/>
          </a:ln>
        </p:spPr>
      </p:pic>
      <p:pic>
        <p:nvPicPr>
          <p:cNvPr id="3372" name="Picture 7" descr="9246596551378957115671.png"/>
          <p:cNvPicPr/>
          <p:nvPr/>
        </p:nvPicPr>
        <p:blipFill>
          <a:blip r:embed="rId3"/>
          <a:stretch/>
        </p:blipFill>
        <p:spPr>
          <a:xfrm>
            <a:off x="6070680" y="3414600"/>
            <a:ext cx="47520" cy="28800"/>
          </a:xfrm>
          <a:prstGeom prst="rect">
            <a:avLst/>
          </a:prstGeom>
          <a:ln w="0">
            <a:noFill/>
          </a:ln>
        </p:spPr>
      </p:pic>
      <p:pic>
        <p:nvPicPr>
          <p:cNvPr id="3373" name="Picture 8" descr="9246596551378957115671.png"/>
          <p:cNvPicPr/>
          <p:nvPr/>
        </p:nvPicPr>
        <p:blipFill>
          <a:blip r:embed="rId4"/>
          <a:stretch/>
        </p:blipFill>
        <p:spPr>
          <a:xfrm>
            <a:off x="6070680" y="3414600"/>
            <a:ext cx="47520" cy="28800"/>
          </a:xfrm>
          <a:prstGeom prst="rect">
            <a:avLst/>
          </a:prstGeom>
          <a:ln w="0">
            <a:noFill/>
          </a:ln>
        </p:spPr>
      </p:pic>
      <p:pic>
        <p:nvPicPr>
          <p:cNvPr id="3374" name="Picture 9" descr="9246596551378957115671.png"/>
          <p:cNvPicPr/>
          <p:nvPr/>
        </p:nvPicPr>
        <p:blipFill>
          <a:blip r:embed="rId5"/>
          <a:stretch/>
        </p:blipFill>
        <p:spPr>
          <a:xfrm>
            <a:off x="6070680" y="3414600"/>
            <a:ext cx="47520" cy="28800"/>
          </a:xfrm>
          <a:prstGeom prst="rect">
            <a:avLst/>
          </a:prstGeom>
          <a:ln w="0">
            <a:noFill/>
          </a:ln>
        </p:spPr>
      </p:pic>
      <p:pic>
        <p:nvPicPr>
          <p:cNvPr id="3375" name="Picture 10" descr="9246596551378957115671.png"/>
          <p:cNvPicPr/>
          <p:nvPr/>
        </p:nvPicPr>
        <p:blipFill>
          <a:blip r:embed="rId6"/>
          <a:stretch/>
        </p:blipFill>
        <p:spPr>
          <a:xfrm>
            <a:off x="6070680" y="3414600"/>
            <a:ext cx="47520" cy="28800"/>
          </a:xfrm>
          <a:prstGeom prst="rect">
            <a:avLst/>
          </a:prstGeom>
          <a:ln w="0">
            <a:noFill/>
          </a:ln>
        </p:spPr>
      </p:pic>
      <p:sp>
        <p:nvSpPr>
          <p:cNvPr id="3376" name="Rectangle 11"/>
          <p:cNvSpPr/>
          <p:nvPr/>
        </p:nvSpPr>
        <p:spPr>
          <a:xfrm>
            <a:off x="1071360" y="71424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思客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QQ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统计系统”帮你失去的客户拉回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Rectangle 12"/>
          <p:cNvSpPr/>
          <p:nvPr/>
        </p:nvSpPr>
        <p:spPr>
          <a:xfrm>
            <a:off x="214200" y="1143000"/>
            <a:ext cx="5353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为什么现在的网站转换率低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网站每天有几十几百上千访客，但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询了解的不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5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，能够看到你广告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进行访问的网民肯定是有需求的，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选择与哪家合作，因素有很多，与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被动等待不如主动把流失的客户拉回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8" name="" descr=""/>
          <p:cNvPicPr/>
          <p:nvPr/>
        </p:nvPicPr>
        <p:blipFill>
          <a:blip r:embed="rId7"/>
          <a:stretch/>
        </p:blipFill>
        <p:spPr>
          <a:xfrm>
            <a:off x="4645080" y="2068560"/>
            <a:ext cx="3943440" cy="2314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0437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产品功能贯穿克亚营销理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0" name="内容占位符 30" descr=""/>
          <p:cNvPicPr/>
          <p:nvPr/>
        </p:nvPicPr>
        <p:blipFill>
          <a:blip r:embed="rId1"/>
          <a:stretch/>
        </p:blipFill>
        <p:spPr>
          <a:xfrm>
            <a:off x="414360" y="822240"/>
            <a:ext cx="8327880" cy="3792600"/>
          </a:xfrm>
          <a:prstGeom prst="rect">
            <a:avLst/>
          </a:prstGeom>
          <a:ln w="0">
            <a:noFill/>
          </a:ln>
        </p:spPr>
      </p:pic>
      <p:sp>
        <p:nvSpPr>
          <p:cNvPr id="3381" name="TextBox 4"/>
          <p:cNvSpPr/>
          <p:nvPr/>
        </p:nvSpPr>
        <p:spPr>
          <a:xfrm>
            <a:off x="1357200" y="4214880"/>
            <a:ext cx="7143840" cy="703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思客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QQ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统计系统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致力于帮您省钱，不要再去购买用户信息了，通过各种方式获取的流量将更有价值，百度竞价等各种广告的费用将大大减少，用户信息完全掌控自己的网站用户；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思客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QQ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统计系统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已经为上万家企业实现了精准营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营销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3" name="" descr=""/>
          <p:cNvPicPr/>
          <p:nvPr/>
        </p:nvPicPr>
        <p:blipFill>
          <a:blip r:embed="rId1"/>
          <a:stretch/>
        </p:blipFill>
        <p:spPr>
          <a:xfrm>
            <a:off x="612720" y="700200"/>
            <a:ext cx="7201080" cy="4475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4" name=""/>
          <p:cNvGrpSpPr/>
          <p:nvPr/>
        </p:nvGrpSpPr>
        <p:grpSpPr>
          <a:xfrm>
            <a:off x="461880" y="789120"/>
            <a:ext cx="3411720" cy="596520"/>
            <a:chOff x="461880" y="789120"/>
            <a:chExt cx="3411720" cy="596520"/>
          </a:xfrm>
        </p:grpSpPr>
        <p:sp>
          <p:nvSpPr>
            <p:cNvPr id="3385" name="Rectangle 3"/>
            <p:cNvSpPr/>
            <p:nvPr/>
          </p:nvSpPr>
          <p:spPr>
            <a:xfrm>
              <a:off x="466560" y="990360"/>
              <a:ext cx="3403080" cy="393120"/>
            </a:xfrm>
            <a:prstGeom prst="rect">
              <a:avLst/>
            </a:prstGeom>
            <a:solidFill>
              <a:srgbClr val="7f7f7f">
                <a:alpha val="51000"/>
              </a:srgbClr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6" name=""/>
            <p:cNvGrpSpPr/>
            <p:nvPr/>
          </p:nvGrpSpPr>
          <p:grpSpPr>
            <a:xfrm>
              <a:off x="461880" y="986760"/>
              <a:ext cx="3411720" cy="398880"/>
              <a:chOff x="461880" y="986760"/>
              <a:chExt cx="3411720" cy="398880"/>
            </a:xfrm>
          </p:grpSpPr>
          <p:pic>
            <p:nvPicPr>
              <p:cNvPr id="3387" name="Picture 5" descr="6610146891378957115687.png"/>
              <p:cNvPicPr/>
              <p:nvPr/>
            </p:nvPicPr>
            <p:blipFill>
              <a:blip r:embed="rId1"/>
              <a:stretch/>
            </p:blipFill>
            <p:spPr>
              <a:xfrm>
                <a:off x="461880" y="986760"/>
                <a:ext cx="3411720" cy="39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8" name="Text Box 6"/>
              <p:cNvSpPr/>
              <p:nvPr/>
            </p:nvSpPr>
            <p:spPr>
              <a:xfrm>
                <a:off x="466560" y="990000"/>
                <a:ext cx="340308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487800" y="1005840"/>
              <a:ext cx="156960" cy="108360"/>
              <a:chOff x="487800" y="1005840"/>
              <a:chExt cx="156960" cy="108360"/>
            </a:xfrm>
          </p:grpSpPr>
          <p:pic>
            <p:nvPicPr>
              <p:cNvPr id="3390" name="Picture 8" descr="7489404751378957115687.png"/>
              <p:cNvPicPr/>
              <p:nvPr/>
            </p:nvPicPr>
            <p:blipFill>
              <a:blip r:embed="rId2"/>
              <a:stretch/>
            </p:blipFill>
            <p:spPr>
              <a:xfrm>
                <a:off x="487800" y="1005840"/>
                <a:ext cx="156960" cy="1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1" name="Text Box 9"/>
              <p:cNvSpPr/>
              <p:nvPr/>
            </p:nvSpPr>
            <p:spPr>
              <a:xfrm>
                <a:off x="538920" y="1040400"/>
                <a:ext cx="67680" cy="4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487800" y="1019880"/>
              <a:ext cx="156960" cy="108360"/>
              <a:chOff x="487800" y="1019880"/>
              <a:chExt cx="156960" cy="108360"/>
            </a:xfrm>
          </p:grpSpPr>
          <p:pic>
            <p:nvPicPr>
              <p:cNvPr id="3393" name="Picture 11" descr="1714770981378957115687.png"/>
              <p:cNvPicPr/>
              <p:nvPr/>
            </p:nvPicPr>
            <p:blipFill>
              <a:blip r:embed="rId3"/>
              <a:stretch/>
            </p:blipFill>
            <p:spPr>
              <a:xfrm>
                <a:off x="487800" y="1019880"/>
                <a:ext cx="156960" cy="1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4" name="Text Box 12"/>
              <p:cNvSpPr/>
              <p:nvPr/>
            </p:nvSpPr>
            <p:spPr>
              <a:xfrm>
                <a:off x="538920" y="1051920"/>
                <a:ext cx="67680" cy="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Line 13"/>
            <p:cNvSpPr/>
            <p:nvPr/>
          </p:nvSpPr>
          <p:spPr>
            <a:xfrm>
              <a:off x="3745080" y="789120"/>
              <a:ext cx="0" cy="253440"/>
            </a:xfrm>
            <a:prstGeom prst="line">
              <a:avLst/>
            </a:prstGeom>
            <a:ln w="9360">
              <a:solidFill>
                <a:srgbClr val="f6924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"/>
            <p:cNvGrpSpPr/>
            <p:nvPr/>
          </p:nvGrpSpPr>
          <p:grpSpPr>
            <a:xfrm>
              <a:off x="3664080" y="1005840"/>
              <a:ext cx="156960" cy="108360"/>
              <a:chOff x="3664080" y="1005840"/>
              <a:chExt cx="156960" cy="108360"/>
            </a:xfrm>
          </p:grpSpPr>
          <p:pic>
            <p:nvPicPr>
              <p:cNvPr id="3397" name="Picture 15" descr="7489404751378957115687.png"/>
              <p:cNvPicPr/>
              <p:nvPr/>
            </p:nvPicPr>
            <p:blipFill>
              <a:blip r:embed="rId4"/>
              <a:stretch/>
            </p:blipFill>
            <p:spPr>
              <a:xfrm>
                <a:off x="3664080" y="1005840"/>
                <a:ext cx="156960" cy="1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8" name="Text Box 16"/>
              <p:cNvSpPr/>
              <p:nvPr/>
            </p:nvSpPr>
            <p:spPr>
              <a:xfrm>
                <a:off x="3710160" y="1040400"/>
                <a:ext cx="67680" cy="4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9" name=""/>
            <p:cNvGrpSpPr/>
            <p:nvPr/>
          </p:nvGrpSpPr>
          <p:grpSpPr>
            <a:xfrm>
              <a:off x="3664080" y="1019880"/>
              <a:ext cx="156960" cy="108360"/>
              <a:chOff x="3664080" y="1019880"/>
              <a:chExt cx="156960" cy="108360"/>
            </a:xfrm>
          </p:grpSpPr>
          <p:pic>
            <p:nvPicPr>
              <p:cNvPr id="3400" name="Picture 18" descr="1714770981378957115687.png"/>
              <p:cNvPicPr/>
              <p:nvPr/>
            </p:nvPicPr>
            <p:blipFill>
              <a:blip r:embed="rId5"/>
              <a:stretch/>
            </p:blipFill>
            <p:spPr>
              <a:xfrm>
                <a:off x="3664080" y="1019880"/>
                <a:ext cx="156960" cy="1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1" name="Text Box 19"/>
              <p:cNvSpPr/>
              <p:nvPr/>
            </p:nvSpPr>
            <p:spPr>
              <a:xfrm>
                <a:off x="3710160" y="1051920"/>
                <a:ext cx="67680" cy="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2" name="Line 20"/>
            <p:cNvSpPr/>
            <p:nvPr/>
          </p:nvSpPr>
          <p:spPr>
            <a:xfrm>
              <a:off x="572400" y="789120"/>
              <a:ext cx="0" cy="253440"/>
            </a:xfrm>
            <a:prstGeom prst="line">
              <a:avLst/>
            </a:prstGeom>
            <a:ln w="9360">
              <a:solidFill>
                <a:srgbClr val="f6924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3" name="Text Box 21"/>
          <p:cNvSpPr/>
          <p:nvPr/>
        </p:nvSpPr>
        <p:spPr>
          <a:xfrm>
            <a:off x="898560" y="1006560"/>
            <a:ext cx="2430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脑端截取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QQ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4" name="Picture 42" descr="1"/>
          <p:cNvPicPr/>
          <p:nvPr/>
        </p:nvPicPr>
        <p:blipFill>
          <a:blip r:embed="rId6"/>
          <a:stretch/>
        </p:blipFill>
        <p:spPr>
          <a:xfrm>
            <a:off x="468360" y="195120"/>
            <a:ext cx="1606680" cy="357480"/>
          </a:xfrm>
          <a:prstGeom prst="rect">
            <a:avLst/>
          </a:prstGeom>
          <a:ln w="0">
            <a:noFill/>
          </a:ln>
        </p:spPr>
      </p:pic>
      <p:pic>
        <p:nvPicPr>
          <p:cNvPr id="3405" name="Picture 44" descr="9246596551378957115671.png"/>
          <p:cNvPicPr/>
          <p:nvPr/>
        </p:nvPicPr>
        <p:blipFill>
          <a:blip r:embed="rId7"/>
          <a:stretch/>
        </p:blipFill>
        <p:spPr>
          <a:xfrm>
            <a:off x="4552920" y="2560680"/>
            <a:ext cx="36720" cy="22320"/>
          </a:xfrm>
          <a:prstGeom prst="rect">
            <a:avLst/>
          </a:prstGeom>
          <a:ln w="0">
            <a:noFill/>
          </a:ln>
        </p:spPr>
      </p:pic>
      <p:sp>
        <p:nvSpPr>
          <p:cNvPr id="3406" name="Text Box 45"/>
          <p:cNvSpPr/>
          <p:nvPr/>
        </p:nvSpPr>
        <p:spPr>
          <a:xfrm>
            <a:off x="1903680" y="212760"/>
            <a:ext cx="113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二、产品介绍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功能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7" name="Picture 46" descr="9246596551378957115671.png"/>
          <p:cNvPicPr/>
          <p:nvPr/>
        </p:nvPicPr>
        <p:blipFill>
          <a:blip r:embed="rId8"/>
          <a:stretch/>
        </p:blipFill>
        <p:spPr>
          <a:xfrm>
            <a:off x="4552920" y="2560680"/>
            <a:ext cx="36720" cy="22320"/>
          </a:xfrm>
          <a:prstGeom prst="rect">
            <a:avLst/>
          </a:prstGeom>
          <a:ln w="0">
            <a:noFill/>
          </a:ln>
        </p:spPr>
      </p:pic>
      <p:pic>
        <p:nvPicPr>
          <p:cNvPr id="3408" name="Picture 47" descr="9246596551378957115671.png"/>
          <p:cNvPicPr/>
          <p:nvPr/>
        </p:nvPicPr>
        <p:blipFill>
          <a:blip r:embed="rId9"/>
          <a:stretch/>
        </p:blipFill>
        <p:spPr>
          <a:xfrm>
            <a:off x="4552920" y="2560680"/>
            <a:ext cx="36720" cy="22320"/>
          </a:xfrm>
          <a:prstGeom prst="rect">
            <a:avLst/>
          </a:prstGeom>
          <a:ln w="0">
            <a:noFill/>
          </a:ln>
        </p:spPr>
      </p:pic>
      <p:pic>
        <p:nvPicPr>
          <p:cNvPr id="3409" name="Picture 48" descr="9246596551378957115671.png"/>
          <p:cNvPicPr/>
          <p:nvPr/>
        </p:nvPicPr>
        <p:blipFill>
          <a:blip r:embed="rId10"/>
          <a:stretch/>
        </p:blipFill>
        <p:spPr>
          <a:xfrm>
            <a:off x="4552920" y="2560680"/>
            <a:ext cx="36720" cy="22320"/>
          </a:xfrm>
          <a:prstGeom prst="rect">
            <a:avLst/>
          </a:prstGeom>
          <a:ln w="0">
            <a:noFill/>
          </a:ln>
        </p:spPr>
      </p:pic>
      <p:pic>
        <p:nvPicPr>
          <p:cNvPr id="3410" name="Picture 49" descr="9246596551378957115671.png"/>
          <p:cNvPicPr/>
          <p:nvPr/>
        </p:nvPicPr>
        <p:blipFill>
          <a:blip r:embed="rId11"/>
          <a:stretch/>
        </p:blipFill>
        <p:spPr>
          <a:xfrm>
            <a:off x="4552920" y="2560680"/>
            <a:ext cx="36720" cy="22320"/>
          </a:xfrm>
          <a:prstGeom prst="rect">
            <a:avLst/>
          </a:prstGeom>
          <a:ln w="0">
            <a:noFill/>
          </a:ln>
        </p:spPr>
      </p:pic>
      <p:pic>
        <p:nvPicPr>
          <p:cNvPr id="3411" name="Picture 50" descr="9246596551378957115671.png"/>
          <p:cNvPicPr/>
          <p:nvPr/>
        </p:nvPicPr>
        <p:blipFill>
          <a:blip r:embed="rId12"/>
          <a:stretch/>
        </p:blipFill>
        <p:spPr>
          <a:xfrm>
            <a:off x="4552920" y="2560680"/>
            <a:ext cx="36720" cy="22320"/>
          </a:xfrm>
          <a:prstGeom prst="rect">
            <a:avLst/>
          </a:prstGeom>
          <a:ln w="0">
            <a:noFill/>
          </a:ln>
        </p:spPr>
      </p:pic>
      <p:sp>
        <p:nvSpPr>
          <p:cNvPr id="3412" name="Text Box 56"/>
          <p:cNvSpPr/>
          <p:nvPr/>
        </p:nvSpPr>
        <p:spPr>
          <a:xfrm>
            <a:off x="398520" y="1830240"/>
            <a:ext cx="36338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开发每一个来过网站的潜在客户，获取客户信息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微软雅黑"/>
              </a:rPr>
              <a:t>时时显示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3" name="" descr=""/>
          <p:cNvPicPr/>
          <p:nvPr/>
        </p:nvPicPr>
        <p:blipFill>
          <a:blip r:embed="rId13"/>
          <a:stretch/>
        </p:blipFill>
        <p:spPr>
          <a:xfrm>
            <a:off x="2268360" y="2211480"/>
            <a:ext cx="635796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" fill="hold"/>
                                        <p:tgtEl>
                                          <p:spTgt spid="3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" fill="hold"/>
                                        <p:tgtEl>
                                          <p:spTgt spid="3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4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4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235758 0 E">
                                      <p:cBhvr>
                                        <p:cTn id="14" dur="2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15" dur="223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23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4" name="Picture 2" descr="1"/>
          <p:cNvPicPr/>
          <p:nvPr/>
        </p:nvPicPr>
        <p:blipFill>
          <a:blip r:embed="rId1"/>
          <a:stretch/>
        </p:blipFill>
        <p:spPr>
          <a:xfrm>
            <a:off x="468360" y="195120"/>
            <a:ext cx="1606680" cy="357480"/>
          </a:xfrm>
          <a:prstGeom prst="rect">
            <a:avLst/>
          </a:prstGeom>
          <a:ln w="0">
            <a:noFill/>
          </a:ln>
        </p:spPr>
      </p:pic>
      <p:sp>
        <p:nvSpPr>
          <p:cNvPr id="3415" name="Text Box 4"/>
          <p:cNvSpPr/>
          <p:nvPr/>
        </p:nvSpPr>
        <p:spPr>
          <a:xfrm>
            <a:off x="1903680" y="212760"/>
            <a:ext cx="113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三、产品介绍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产品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Line 5"/>
          <p:cNvSpPr/>
          <p:nvPr/>
        </p:nvSpPr>
        <p:spPr>
          <a:xfrm>
            <a:off x="4464000" y="1492200"/>
            <a:ext cx="2381400" cy="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6"/>
          <p:cNvSpPr/>
          <p:nvPr/>
        </p:nvSpPr>
        <p:spPr>
          <a:xfrm>
            <a:off x="5872320" y="3274920"/>
            <a:ext cx="161604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e044"/>
                </a:solidFill>
                <a:latin typeface="Arial"/>
                <a:ea typeface="华文细黑"/>
              </a:rPr>
              <a:t>精准数据，优质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e044"/>
                </a:solidFill>
                <a:latin typeface="Arial"/>
                <a:ea typeface="华文细黑"/>
              </a:rPr>
              <a:t>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7"/>
          <p:cNvSpPr/>
          <p:nvPr/>
        </p:nvSpPr>
        <p:spPr>
          <a:xfrm>
            <a:off x="5491080" y="1193760"/>
            <a:ext cx="13924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华文细黑"/>
              </a:rPr>
              <a:t>第一时间获取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华文细黑"/>
              </a:rPr>
              <a:t>用户信息，方便咨询及时回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Line 8"/>
          <p:cNvSpPr/>
          <p:nvPr/>
        </p:nvSpPr>
        <p:spPr>
          <a:xfrm>
            <a:off x="5705640" y="3543480"/>
            <a:ext cx="1836720" cy="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Line 9"/>
          <p:cNvSpPr/>
          <p:nvPr/>
        </p:nvSpPr>
        <p:spPr>
          <a:xfrm>
            <a:off x="358920" y="3112920"/>
            <a:ext cx="2106360" cy="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10"/>
          <p:cNvSpPr/>
          <p:nvPr/>
        </p:nvSpPr>
        <p:spPr>
          <a:xfrm>
            <a:off x="522360" y="2822400"/>
            <a:ext cx="16192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数据保证独家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2" name="Picture 11" descr="图片1"/>
          <p:cNvPicPr/>
          <p:nvPr/>
        </p:nvPicPr>
        <p:blipFill>
          <a:blip r:embed="rId2"/>
          <a:stretch/>
        </p:blipFill>
        <p:spPr>
          <a:xfrm>
            <a:off x="2033640" y="1006560"/>
            <a:ext cx="3833640" cy="3477960"/>
          </a:xfrm>
          <a:prstGeom prst="rect">
            <a:avLst/>
          </a:prstGeom>
          <a:ln w="0">
            <a:noFill/>
          </a:ln>
        </p:spPr>
      </p:pic>
      <p:sp>
        <p:nvSpPr>
          <p:cNvPr id="3423" name="Text Box 12"/>
          <p:cNvSpPr/>
          <p:nvPr/>
        </p:nvSpPr>
        <p:spPr>
          <a:xfrm>
            <a:off x="3759480" y="2679840"/>
            <a:ext cx="45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优势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Text Box 13"/>
          <p:cNvSpPr/>
          <p:nvPr/>
        </p:nvSpPr>
        <p:spPr>
          <a:xfrm>
            <a:off x="3600360" y="1330200"/>
            <a:ext cx="138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Text Box 14"/>
          <p:cNvSpPr/>
          <p:nvPr/>
        </p:nvSpPr>
        <p:spPr>
          <a:xfrm>
            <a:off x="3870360" y="1290600"/>
            <a:ext cx="43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 Box 15"/>
          <p:cNvSpPr/>
          <p:nvPr/>
        </p:nvSpPr>
        <p:spPr>
          <a:xfrm>
            <a:off x="5027400" y="3343320"/>
            <a:ext cx="412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精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Text Box 16"/>
          <p:cNvSpPr/>
          <p:nvPr/>
        </p:nvSpPr>
        <p:spPr>
          <a:xfrm>
            <a:off x="2558880" y="3338640"/>
            <a:ext cx="412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Text Box 16"/>
          <p:cNvSpPr/>
          <p:nvPr/>
        </p:nvSpPr>
        <p:spPr>
          <a:xfrm>
            <a:off x="1116000" y="4408560"/>
            <a:ext cx="70293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功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导出、邮件推送、客户归类、关键词来路、来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、访问页面地址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灯片编号占位符 1"/>
          <p:cNvSpPr/>
          <p:nvPr/>
        </p:nvSpPr>
        <p:spPr>
          <a:xfrm>
            <a:off x="655308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 </a:t>
            </a:r>
            <a:fld id="{6032C608-2C33-4F8F-B2D8-F2EAA34C3D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TextBox 6"/>
          <p:cNvSpPr/>
          <p:nvPr/>
        </p:nvSpPr>
        <p:spPr>
          <a:xfrm>
            <a:off x="3914640" y="3513240"/>
            <a:ext cx="38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sike8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咨询客服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QQ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：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27804588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1" name="TextBox 7" descr=""/>
          <p:cNvPicPr/>
          <p:nvPr/>
        </p:nvPicPr>
        <p:blipFill>
          <a:blip r:embed="rId2"/>
          <a:stretch/>
        </p:blipFill>
        <p:spPr>
          <a:xfrm>
            <a:off x="4068720" y="2355840"/>
            <a:ext cx="2938680" cy="1103400"/>
          </a:xfrm>
          <a:prstGeom prst="rect">
            <a:avLst/>
          </a:prstGeom>
          <a:ln w="0">
            <a:noFill/>
          </a:ln>
        </p:spPr>
      </p:pic>
      <p:sp>
        <p:nvSpPr>
          <p:cNvPr id="3432" name=""/>
          <p:cNvSpPr/>
          <p:nvPr/>
        </p:nvSpPr>
        <p:spPr>
          <a:xfrm>
            <a:off x="1260720" y="141912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详情请登陆官方网站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sike8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3.333000183105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100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77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100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00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1.11111E-006 L -0.06789 1.11111E-006 E">
                                      <p:cBhvr>
                                        <p:cTn id="60" dur="800" fill="hold"/>
                                        <p:tgtEl>
                                          <p:spTgt spid="3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77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3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3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1.11111E-006 L -0.06615 1.11111E-006 E">
                                      <p:cBhvr>
                                        <p:cTn id="67" dur="800" fill="hold"/>
                                        <p:tgtEl>
                                          <p:spTgt spid="3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41:47Z</dcterms:created>
  <dc:creator>david</dc:creator>
  <dc:description/>
  <dc:language>en-US</dc:language>
  <cp:lastModifiedBy>fanfan</cp:lastModifiedBy>
  <dcterms:modified xsi:type="dcterms:W3CDTF">2014-03-23T12:03:30Z</dcterms:modified>
  <cp:revision>260</cp:revision>
  <dc:subject/>
  <dc:title>F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