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2C9C-2372-4335-8581-BE681D79D6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gvkgv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9E6-1E27-48DB-881E-9227343F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6B9-8C14-46D0-AE8D-8CA4421B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F6D-0AD5-45D2-8BCA-10395D93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AAB-0CD8-45D6-AA89-8F94D986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68D5-6F6B-4C2D-A10A-10325B9B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D7F-989E-44FF-A94F-7536B82D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91F5-487D-4741-AB6E-E71A8830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313-52A9-45BE-9F1D-0CCC677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6BD0-4661-43F0-8607-61116EB1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4BCC-B150-4A11-803A-D1266927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31D-3778-4A69-BFE3-919287B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C15-9AA6-47D8-A454-1329FBB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95C9-ED89-4B37-AD1B-0C2477D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D6D8-2515-4206-B551-EF0701E8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8B5-FAD8-4410-B3FE-54A3A11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E6DC-EE66-4062-B133-4D73722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4D86-00D7-4DE5-B5A8-C411CB87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981-DAE8-4BD1-9CA1-29928F68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207-20F6-459F-B2A9-8A71E8C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61F-A82E-4788-9FFB-36EEF4F9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969-D824-46BE-AA4A-63B74AA2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DD7-9A42-4790-B012-CC1E96F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CDD-FDBF-465C-9EB9-6DEF4112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A33-F3BC-4B98-B8BD-F037B9B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3E6A-C5C6-4820-A86D-A9A16B4403B1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25B-36B5-4E7D-9A82-CD1BF2E0FE4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明歆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M.X.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打菲记菲管理系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明歆科技有限公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服务热线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0769-8511561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(0)1392434960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邮箱地址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:3498740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@qq.co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欢迎访问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www.mingxinsoft.c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三、灵活的自定义报表功能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854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可根据和企业的需求，自行取舍栏位上、调整栏位的位置、宽度，自行制定各种所需的表格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四、全方位的联动搜索查询功能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54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具有象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windows vista 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操作系统命令功能，任意内容为查询条件，轻松方便上网和搜索资料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五、优美的图形选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软件流程步骤、单据、报表轻松点击，一目了然。外观和谐、内容实用、易方便操作，提供界面上的任意文字名称可改性和可移性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明歆科技</a:t>
            </a: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-</a:t>
            </a:r>
            <a:r>
              <a:rPr b="0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公司介绍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东莞明歆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新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科技有限公司是一家集软件开发、咨询、实施、技术服务为一体的计算机系统集成的专业化软件公司，明新始终着眼于用户的成功，从而也使他成为本地乃至全国出色的企业信息系统、软件及系统集成解决方案供应商。专业为各行业提供企业管理软件和各种解决方案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目前，明歆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新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科技有限公司已能为服装、鞋帽、电子、化工、机械、印刷、五金、电镀、手袋、玩具、皮具、国际贸易等众多企业提供计算机信息化系统全面解决方案，包括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ERP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管理系统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R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管理系统，条码管理系统，一卡通（门禁、考勤、饭堂）管理系统、电子看板（生产即时）管理系统等等的全面解决方案的整合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公司拥有一批极具行业背景的企业管理咨询顾问，能帮助企业分析管理中存在的问题，使企业能够成功、合理地运用信息系统创造价值，提升企业竞争力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未来的明歆科技将不懈努力，以软件为依托，将不断开拓进取，在高新技术服务方面不断求索，并继续以“实事求是，热心服务” 为宗旨，以满足市场不断变化的客户需求为已任，努力创造优质产品和优质的服务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六、易用的快捷操作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8540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和画面具有象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windows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的右键功能和快捷键，内容资料可以用复制功能。从而达到易用易懂效果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七、安全可靠的系统保障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540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采用主流 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MSSQL SERVER2000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大型数据库系统，数据安全无误，系统稳定可靠，数据自动备份保障数据万无一失，数据传输采用先进的数据压缩技术，确保数据交换更加快捷准确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八、广泛的客户需求软件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320004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系统适合制衣、服装、鞋帽等行业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九、个性化二次开发功能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8540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系统还可以提供客户个性化二次开发，以完全满足客户的需求，为客户带来更大的效益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5286600" cy="5515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57440" y="28191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谢谢大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关注业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2666880"/>
            <a:ext cx="5867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行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ER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系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条形码管理系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电子看板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生产即时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管理系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一卡通管理系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M.X.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打菲记菲管理系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明歆《打菲记菲管理系统》是明歆专为制衣行业设计的软件产品，软件已广泛地应用在制衣行业的企业中，帮助客户迅速提升管理水平，得到了客户一致的好评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软件包括基本资料、制单、裁单、打菲、记菲、扣菲、工资管理、报表中心八大功能模块，是一套专业的制衣行业生产管理软件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裁床打飞模块中，可以以裁床表格的形式，快速直观地录入裁床制单，方便地浏览统计裁床制单，打印裁床记录表。软件使用了讯特公司的高速打印技术，录入裁床制单后，软件自动根据裁床的唛架比例与拉布层数，快速地分扎打印带有条码的飞票（飞票即工票）。飞票打印出来后，将飞票绑在分扎的裁片上，然后将裁片发到车间让工人生产，工人每完成一扎裁片中的一道工序，便剪下相应的飞票，以此作为计算计件工资及生产进度的依据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生产计飞模块中，使用了明新科技的高效条码识别技术，可以用读码器快速地读入带有条码的飞票（条码模糊的飞票也能正确读入，而且同一张飞票只能读入一次，确保数据准确无误）。工人在车间生产时剪下的飞票，每天上交给办公室的统计员，统计员把飞票用读码器读入电脑后，便可以查询生产进度，自动生成工厂的生产报表与员工的计件工资表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M.X.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打菲记菲系统流程图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28600" y="1409760"/>
            <a:ext cx="86104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明歆打菲记菲亮点特色介绍</a:t>
            </a:r>
            <a:r>
              <a:rPr b="0" lang="zh-CN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2" action="ppaction://hlinksldjump"/>
              </a:rPr>
              <a:t>一、先进的系统架构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采用先进的模块化结构，可根据各部门的职能，设定不同的权限，使用不同的系统模块，即使相同的系统模块各用户可以设定查看和处理自已的数据，不能查看和修改其他用户的数据资料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3" action="ppaction://hlinksldjump"/>
              </a:rPr>
              <a:t>二、多级数据整合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具有多语言、多公司、多帐套功能、可多地区资料整合，以满足跨国际集团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公司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的跨地区需求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4" action="ppaction://hlinksldjump"/>
              </a:rPr>
              <a:t>三、灵活的自定义报表功能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可根据和企业的需求，自行取舍栏位上、调整栏位的位置、宽度，自行制定各种所需的表格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5" action="ppaction://hlinksldjump"/>
              </a:rPr>
              <a:t>四、全方位的联动搜索查询功能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具有象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windows vista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操作系统命令功能，任意内容为查询条件，轻松方便上网和搜索资料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6" action="ppaction://hlinksldjump"/>
              </a:rPr>
              <a:t>五、优美的图形选单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软件流程步骤、单据、报表轻松点击，一目了然。外观和谐、内容实用、易方便操作，提供界面上的任意文字名称可改性和可移性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7" action="ppaction://hlinksldjump"/>
              </a:rPr>
              <a:t>六、易用的快捷操作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和画面具有象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windows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的右键功能和快捷键，内容资料可以用复制功能。从而达到易用易懂效果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8" action="ppaction://hlinksldjump"/>
              </a:rPr>
              <a:t>七、安全可靠的系统保障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采用主流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MSSQL SERVER2000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大型数据库系统，数据安全无误，系统稳定可靠，数据自动备份保障数据万无一失，数据传输采用先进的数据压缩技术，确保数据交换更加快捷准确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9" action="ppaction://hlinksldjump"/>
              </a:rPr>
              <a:t>八、广泛的客户需求软件：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系统满足制造型生产的企业外还适合中小型来料加工企业，具有两者兼容并存的功能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黑体"/>
                <a:ea typeface="黑体"/>
                <a:hlinkClick r:id="rId11" action="ppaction://hlinksldjump"/>
              </a:rPr>
              <a:t>九、个性化二次开发功能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系统还可以提供客户个性化二次开发，以完全满足客户的需求，为客户带来更大的效益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一、先进的系统架构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采用先进的模块化结构，可根据各部门的职能，设定不同的权限，使用不同的系统模块，即使相同的系统模块各用户可以设定查看和处理自已的数据，不能查看和修改其他用户的数据资料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黑体"/>
              </a:rPr>
              <a:t>二、多级数据整合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具有多语言、多公司、多帐套功能、可多地区资料整合，以满足跨国际集团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公司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500" spc="-1" strike="noStrike">
                <a:solidFill>
                  <a:srgbClr val="007a77"/>
                </a:solidFill>
                <a:latin typeface="Arial"/>
              </a:rPr>
              <a:t>的跨地区需求</a:t>
            </a:r>
            <a:r>
              <a:rPr b="0" lang="zh-CN" sz="35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</cp:lastModifiedBy>
  <dcterms:modified xsi:type="dcterms:W3CDTF">2012-02-12T03:42:1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