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51D-18AE-4B5E-B4C2-B659870B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3F0-D0D9-4783-8424-A973C272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2179-AB31-4E66-9654-23C84E85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6921-D4AB-44D1-8CC7-2B605299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9DA9-0A8A-4807-957D-ABEF8289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D8A2-BEC5-452F-8042-53E55229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91AE-B098-466F-9BC0-599EBD72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9965-99B6-4BC8-B2B6-3795C960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31BE-5264-4ABF-A53F-E14ADD69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CD4A-70C1-4DDE-9BEB-A27362F7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2044-B324-4107-B7A0-BE7C854D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456C-A47C-499F-BC5A-3F8305C7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9F23-1E63-41D8-A0F0-A8BFD746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737C-582C-4A67-AB68-C2FB73C4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1821-65FF-43F2-809D-0C2FEACB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1E75-F826-4C04-82B7-DE0EA5DF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AABC-147C-4854-8504-DA674FF3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01F-2C63-471C-A66B-92C6F045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40A-8736-4907-B039-12DC91DB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C291-3DB5-429D-B4D0-1FEBD208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CA07-9882-49EB-95C4-F0059928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F30-6E26-49ED-B7BB-D6E30A28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B9A-414A-42F0-BAAE-5BE22D8F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1BC8-1231-4E91-ABBC-6B8E7BC0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729C-70C8-4648-A4BB-40B18235BA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FDEC-7562-41C4-879C-A69109856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买家后台使用说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4200" y="2499840"/>
            <a:ext cx="8715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您只要简单操作三步就可以赚</a:t>
            </a: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元佣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不花自己一分钱，用卖家红包购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完成评价</a:t>
            </a: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天，卖家忘打款，可旺旺提醒对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整个过程您只需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鼠标，花</a:t>
            </a: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分钟左右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就可赚得</a:t>
            </a: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副标题 2"/>
          <p:cNvSpPr/>
          <p:nvPr/>
        </p:nvSpPr>
        <p:spPr>
          <a:xfrm>
            <a:off x="2500200" y="2071800"/>
            <a:ext cx="40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285840" y="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合适互刷，网赚，需刷单，接单的人使用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无需任何入会费，押金，流动资金，整过程无一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金钱交易，完全免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" descr="17.png"/>
          <p:cNvPicPr/>
          <p:nvPr/>
        </p:nvPicPr>
        <p:blipFill>
          <a:blip r:embed="rId1"/>
          <a:stretch/>
        </p:blipFill>
        <p:spPr>
          <a:xfrm>
            <a:off x="0" y="985680"/>
            <a:ext cx="914400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给卖家五星好评后，就只需等待对方的打款了，软件都有做好记录，可随时查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42960" y="13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第三步：进入评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0040" y="642600"/>
            <a:ext cx="8143920" cy="342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不会淘宝购物的朋友可以进下面网址学下图片如何购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幼圆"/>
                <a:ea typeface="幼圆"/>
              </a:rPr>
              <a:t>http://service.taobao.com/support/knowledge-1115818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不会评价的朋友，可以进入下面学下图片评价教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幼圆"/>
                <a:ea typeface="幼圆"/>
              </a:rPr>
              <a:t>http://jingyan.baidu.com/article/6c67b1d6c2ecf82787bb1ebb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淘宝交易流程视频详解 怎么付款、确认收货、评价 教程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幼圆"/>
                <a:ea typeface="幼圆"/>
              </a:rPr>
              <a:t>http://video.sina.com.cn/v/b/87150452-1956148705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淘宝帐号注册图片教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幼圆"/>
                <a:ea typeface="幼圆"/>
              </a:rPr>
              <a:t>http://service.taobao.com/support/knowledge-1114071.htm?spm=0.0.0.0.sgAiCi&amp;dkey=cat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857160" y="2571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申请后，需要等待卖家审核，审核通过后，就可以获得卖家的红包，就可以无需花一分钱，进入购买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2960" y="13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第一步：申请接任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用卖家给的红包进入付款，按任务要求进行购买，看不懂要求，请看菜单中帮助</a:t>
            </a: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述语说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42960" y="13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第二步：进入购买商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7" descr="11.png"/>
          <p:cNvPicPr/>
          <p:nvPr/>
        </p:nvPicPr>
        <p:blipFill>
          <a:blip r:embed="rId1"/>
          <a:stretch/>
        </p:blipFill>
        <p:spPr>
          <a:xfrm>
            <a:off x="0" y="217440"/>
            <a:ext cx="91440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" descr="12.png"/>
          <p:cNvPicPr/>
          <p:nvPr/>
        </p:nvPicPr>
        <p:blipFill>
          <a:blip r:embed="rId1"/>
          <a:stretch/>
        </p:blipFill>
        <p:spPr>
          <a:xfrm>
            <a:off x="426960" y="0"/>
            <a:ext cx="829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" descr="13.png"/>
          <p:cNvPicPr/>
          <p:nvPr/>
        </p:nvPicPr>
        <p:blipFill>
          <a:blip r:embed="rId1"/>
          <a:stretch/>
        </p:blipFill>
        <p:spPr>
          <a:xfrm>
            <a:off x="9360" y="1119240"/>
            <a:ext cx="91252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14.png"/>
          <p:cNvPicPr/>
          <p:nvPr/>
        </p:nvPicPr>
        <p:blipFill>
          <a:blip r:embed="rId1"/>
          <a:stretch/>
        </p:blipFill>
        <p:spPr>
          <a:xfrm>
            <a:off x="109440" y="933480"/>
            <a:ext cx="89251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2" descr="15.png"/>
          <p:cNvPicPr/>
          <p:nvPr/>
        </p:nvPicPr>
        <p:blipFill>
          <a:blip r:embed="rId1"/>
          <a:stretch/>
        </p:blipFill>
        <p:spPr>
          <a:xfrm>
            <a:off x="0" y="917640"/>
            <a:ext cx="9144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2" descr="16.png"/>
          <p:cNvPicPr/>
          <p:nvPr/>
        </p:nvPicPr>
        <p:blipFill>
          <a:blip r:embed="rId1"/>
          <a:stretch/>
        </p:blipFill>
        <p:spPr>
          <a:xfrm>
            <a:off x="0" y="819000"/>
            <a:ext cx="91440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9T00:49:08Z</dcterms:created>
  <dc:creator>微软中国</dc:creator>
  <dc:description/>
  <dc:language>en-US</dc:language>
  <cp:lastModifiedBy>User</cp:lastModifiedBy>
  <dcterms:modified xsi:type="dcterms:W3CDTF">2013-07-24T03:33:38Z</dcterms:modified>
  <cp:revision>60</cp:revision>
  <dc:subject/>
  <dc:title>PowerPoint 演示文稿</dc:title>
</cp:coreProperties>
</file>