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849-CA73-4880-9B6E-FF1DF94A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24C-42BA-4B42-A497-AD237310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62D-0914-475F-8BF8-4B83C0C2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8EC-5640-4572-A944-BA01B296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FE1C-59BC-40EF-9C77-CB4595FA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2FB5-F9EA-4B84-ACC2-54BF8F14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7ECE-5201-40B6-B9B1-5462FB87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B046-433B-47EC-B6E0-DAB5E25B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A31E-DB39-46EE-B9B3-19EB3E90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E7AC-EA7D-46D0-87E4-67F69714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F03E-D4FB-4314-A6CC-F2940016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797-F27C-4893-A64C-D6EF2C04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4524-5CC7-4485-B173-BAF118BF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AB45-9C44-49DA-99B6-5BA58615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0681-7129-4F0B-9AA8-030FC9A3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19DD-94B6-4702-B92B-05510BEF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58A4-A30F-4106-A052-1203F0E9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745-B8DD-4FAE-86AA-E58103AA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BE2-039A-43D4-B0A8-F8854C30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2D6-EF84-416E-B5FE-9F1B65CE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060-109D-4315-BB36-BF46D7D8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C1E-AE3C-4099-BB0B-EA3A467A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E10-D88F-4E19-A5B2-9178BF7C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BD68-C91A-4BDA-8858-74E68E21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E839-70F0-4BC7-B278-1A2A5B9784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CC24-E1ED-4E9B-8EF9-189689B94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卖家后台使用说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3840" y="2499840"/>
            <a:ext cx="7358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您只要简单操作三步就可以完成刷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量越多越节省时间，提高效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完全模拟真实购物，不易降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整过程不花一分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只需评价后给购买的客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打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元的佣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副标题 2"/>
          <p:cNvSpPr/>
          <p:nvPr/>
        </p:nvSpPr>
        <p:spPr>
          <a:xfrm>
            <a:off x="2500200" y="2071800"/>
            <a:ext cx="40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85840" y="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合适互刷，网赚，需刷单，接单的人使用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无需任何入会费，押金，流动资金，整过程无一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金钱交易，完全免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3" descr="07.png"/>
          <p:cNvPicPr/>
          <p:nvPr/>
        </p:nvPicPr>
        <p:blipFill>
          <a:blip r:embed="rId1"/>
          <a:stretch/>
        </p:blipFill>
        <p:spPr>
          <a:xfrm>
            <a:off x="662040" y="866880"/>
            <a:ext cx="781992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查正那些已评价的买家是不是真的评价了，没问题就直接打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三步：审核评价打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3" descr="21.png"/>
          <p:cNvPicPr/>
          <p:nvPr/>
        </p:nvPicPr>
        <p:blipFill>
          <a:blip r:embed="rId1"/>
          <a:stretch/>
        </p:blipFill>
        <p:spPr>
          <a:xfrm>
            <a:off x="0" y="1127160"/>
            <a:ext cx="91440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2" descr="22.png"/>
          <p:cNvPicPr/>
          <p:nvPr/>
        </p:nvPicPr>
        <p:blipFill>
          <a:blip r:embed="rId1"/>
          <a:stretch/>
        </p:blipFill>
        <p:spPr>
          <a:xfrm>
            <a:off x="0" y="43020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2" descr="23.png"/>
          <p:cNvPicPr/>
          <p:nvPr/>
        </p:nvPicPr>
        <p:blipFill>
          <a:blip r:embed="rId1"/>
          <a:stretch/>
        </p:blipFill>
        <p:spPr>
          <a:xfrm>
            <a:off x="0" y="743040"/>
            <a:ext cx="91440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" descr="24.png"/>
          <p:cNvPicPr/>
          <p:nvPr/>
        </p:nvPicPr>
        <p:blipFill>
          <a:blip r:embed="rId1"/>
          <a:stretch/>
        </p:blipFill>
        <p:spPr>
          <a:xfrm>
            <a:off x="771480" y="371520"/>
            <a:ext cx="760104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2" descr="25.png"/>
          <p:cNvPicPr/>
          <p:nvPr/>
        </p:nvPicPr>
        <p:blipFill>
          <a:blip r:embed="rId1"/>
          <a:stretch/>
        </p:blipFill>
        <p:spPr>
          <a:xfrm>
            <a:off x="152280" y="1057320"/>
            <a:ext cx="88394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57160" y="2571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批量发布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任务要求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宝贝网址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收货地址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评价要求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追加评价要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如其中那项不填写，“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还是要保留，如任务要求与收货地址不要，格式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宝贝网址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评价要求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追加评价要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一步：批量发布刷的宝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提示：给过红包的小号支付宝都要做好登记，只要是这个小号的支付宝购物，都不要真发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二步：审核小号发红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" descr="01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" descr="02.png"/>
          <p:cNvPicPr/>
          <p:nvPr/>
        </p:nvPicPr>
        <p:blipFill>
          <a:blip r:embed="rId1"/>
          <a:stretch/>
        </p:blipFill>
        <p:spPr>
          <a:xfrm>
            <a:off x="0" y="1017720"/>
            <a:ext cx="914400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" descr="03.png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3" descr="04.png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3" descr="05.png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3" descr="06.png"/>
          <p:cNvPicPr/>
          <p:nvPr/>
        </p:nvPicPr>
        <p:blipFill>
          <a:blip r:embed="rId1"/>
          <a:stretch/>
        </p:blipFill>
        <p:spPr>
          <a:xfrm>
            <a:off x="1324080" y="95400"/>
            <a:ext cx="6495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9T00:49:08Z</dcterms:created>
  <dc:creator>微软中国</dc:creator>
  <dc:description/>
  <dc:language>en-US</dc:language>
  <cp:lastModifiedBy>User</cp:lastModifiedBy>
  <dcterms:modified xsi:type="dcterms:W3CDTF">2013-07-24T03:29:53Z</dcterms:modified>
  <cp:revision>62</cp:revision>
  <dc:subject/>
  <dc:title>PowerPoint 演示文稿</dc:title>
</cp:coreProperties>
</file>