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7DE-9633-4229-8C82-23E42F43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2866-080F-448F-9878-89FEC0CD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A2A-90AE-4C26-81CD-C27CE86C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F0E-014E-417B-A4E5-8FBF7B2F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34EF-204F-4F7C-A65F-2998C34C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7C9D-86F3-4B87-B45F-ABE00934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EF4D-217A-42C4-A03F-93EF411C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8692-8561-426C-B356-9502DE9D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6639-F774-4058-BE14-1F978D55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521C-092E-4B86-B1BC-AFEBC6D3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0B74-3EB8-47D8-837B-D288CC76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4FB-636E-4B10-9D0C-1A6BB9A7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A953-0F99-45C8-B46A-B9BC9C5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4759-7133-43B4-BA87-D2B82C6F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4544-CD31-4029-BE48-B67ECF2C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B552-5186-4BC5-8490-C34353B3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8978-833B-4401-8562-43620DFD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1BB-B136-40BE-BE87-7368A58A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2B1-12F5-4655-A1B8-81A59F8B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729-DD88-4498-85EA-7681CF64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7FA-A26E-4C1F-BB82-FDEBE85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845-F114-4F53-9894-E9BB977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11B-874E-44ED-95E1-7D2C2308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766E-2783-43E5-8A94-44961201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CFF-E2FB-4424-8DE1-55D8DF52E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32E6-FC89-4059-BB79-48C4C52BC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买家后台使用说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4200" y="2499840"/>
            <a:ext cx="8715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您只要简单操作三步就可以赚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元佣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不花自己一分钱，用卖家红包购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完成评价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天，卖家忘打款，可旺旺提醒对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整个过程您只需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鼠标，花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分钟左右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就可赚得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副标题 2"/>
          <p:cNvSpPr/>
          <p:nvPr/>
        </p:nvSpPr>
        <p:spPr>
          <a:xfrm>
            <a:off x="2500200" y="2071800"/>
            <a:ext cx="40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85840" y="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合适互刷，网赚，需刷单，接单的人使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无需任何入会费，押金，流动资金，整过程无一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金钱交易，完全免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17.png"/>
          <p:cNvPicPr/>
          <p:nvPr/>
        </p:nvPicPr>
        <p:blipFill>
          <a:blip r:embed="rId1"/>
          <a:stretch/>
        </p:blipFill>
        <p:spPr>
          <a:xfrm>
            <a:off x="0" y="985680"/>
            <a:ext cx="914400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给卖家五星好评后，就只需等待对方的打款了，软件都有做好记录，可随时查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三步：进入评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0040" y="642600"/>
            <a:ext cx="814392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不会淘宝购物的朋友可以进下面网址学下图片如何购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service.taobao.com/support/knowledge-1115818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不会评价的朋友，可以进入下面学下图片评价教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jingyan.baidu.com/article/6c67b1d6c2ecf82787bb1ebb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淘宝交易流程视频详解 怎么付款、确认收货、评价 教程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video.sina.com.cn/v/b/87150452-1956148705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淘宝帐号注册图片教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幼圆"/>
                <a:ea typeface="幼圆"/>
              </a:rPr>
              <a:t>http://service.taobao.com/support/knowledge-1114071.htm?spm=0.0.0.0.sgAiCi&amp;dkey=cat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申请后，需要等待卖家审核，审核通过后，就可以获得卖家的红包，就可以无需花一分钱，进入购买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一步：申请接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用卖家给的红包进入付款，按任务要求进行购买，看不懂要求，请看菜单中帮助</a:t>
            </a:r>
            <a:r>
              <a:rPr b="0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述语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42960" y="13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第二步：进入购买商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副标题 2"/>
          <p:cNvSpPr/>
          <p:nvPr/>
        </p:nvSpPr>
        <p:spPr>
          <a:xfrm>
            <a:off x="4429080" y="0"/>
            <a:ext cx="4714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软件首页</a:t>
            </a:r>
            <a:r>
              <a:rPr b="1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:http://www.g5hui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7" descr="11.png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12.png"/>
          <p:cNvPicPr/>
          <p:nvPr/>
        </p:nvPicPr>
        <p:blipFill>
          <a:blip r:embed="rId1"/>
          <a:stretch/>
        </p:blipFill>
        <p:spPr>
          <a:xfrm>
            <a:off x="426960" y="0"/>
            <a:ext cx="829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13.png"/>
          <p:cNvPicPr/>
          <p:nvPr/>
        </p:nvPicPr>
        <p:blipFill>
          <a:blip r:embed="rId1"/>
          <a:stretch/>
        </p:blipFill>
        <p:spPr>
          <a:xfrm>
            <a:off x="9360" y="1119240"/>
            <a:ext cx="91252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14.png"/>
          <p:cNvPicPr/>
          <p:nvPr/>
        </p:nvPicPr>
        <p:blipFill>
          <a:blip r:embed="rId1"/>
          <a:stretch/>
        </p:blipFill>
        <p:spPr>
          <a:xfrm>
            <a:off x="109440" y="933480"/>
            <a:ext cx="89251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2" descr="15.png"/>
          <p:cNvPicPr/>
          <p:nvPr/>
        </p:nvPicPr>
        <p:blipFill>
          <a:blip r:embed="rId1"/>
          <a:stretch/>
        </p:blipFill>
        <p:spPr>
          <a:xfrm>
            <a:off x="0" y="917640"/>
            <a:ext cx="91440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" descr="16.png"/>
          <p:cNvPicPr/>
          <p:nvPr/>
        </p:nvPicPr>
        <p:blipFill>
          <a:blip r:embed="rId1"/>
          <a:stretch/>
        </p:blipFill>
        <p:spPr>
          <a:xfrm>
            <a:off x="0" y="819000"/>
            <a:ext cx="914400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9T00:49:08Z</dcterms:created>
  <dc:creator>微软中国</dc:creator>
  <dc:description/>
  <dc:language>en-US</dc:language>
  <cp:lastModifiedBy>User</cp:lastModifiedBy>
  <dcterms:modified xsi:type="dcterms:W3CDTF">2013-07-24T03:33:38Z</dcterms:modified>
  <cp:revision>60</cp:revision>
  <dc:subject/>
  <dc:title>PowerPoint 演示文稿</dc:title>
</cp:coreProperties>
</file>