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313-E9E3-4A2C-B725-1964ACCC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FCE-9F68-4A14-AE1D-6F1AD7F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3EE-9112-47A2-BA77-F78C838A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11B-845B-444D-820B-CF957A7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9F5C-8446-41C2-89FC-8887CF19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498-560B-43A8-94B5-F3EDEFA5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E2E3-8673-4756-8F10-C887F613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6B34-2535-4DF2-AAA5-A5AE778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D365-F656-46CD-B2FF-09D2D45D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ED80-6E6F-4439-B190-EA806892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E6B-81A6-42D7-B05C-7E35B0A6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45B-FDCD-4535-9B0F-C492A818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E10-B644-488B-9401-97CA9F5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1B1A-8775-4110-9905-1B0A770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B69-FF89-436E-A55D-F0BB330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191D-EB55-46F6-9BF7-DF60B54B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2BB7-BEBE-4DFE-A2CD-65261F41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A4A-2E0A-4CEF-A180-EEACA26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569-83C0-407F-970D-68E7E28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E3B-DAA3-43B4-99A5-1E2A6A38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1FB-73BC-4B55-B2D7-BA1F5EB6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51D-9A37-4834-871B-DDDFD3D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877-EB80-4E00-8883-24208A81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326-57D4-4988-8A9F-1D69E80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FAE-379C-4D73-85CF-C0FDA11D2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0379-672E-429C-8DC0-718C116AA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卖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3840" y="2499840"/>
            <a:ext cx="7358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完成刷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量越多越节省时间，提高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全模拟真实购物，不易降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过程不花一分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只需评价后给购买的客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打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的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07.png"/>
          <p:cNvPicPr/>
          <p:nvPr/>
        </p:nvPicPr>
        <p:blipFill>
          <a:blip r:embed="rId1"/>
          <a:stretch/>
        </p:blipFill>
        <p:spPr>
          <a:xfrm>
            <a:off x="662040" y="866880"/>
            <a:ext cx="78199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查正那些已评价的买家是不是真的评价了，没问题就直接打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审核评价打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21.png"/>
          <p:cNvPicPr/>
          <p:nvPr/>
        </p:nvPicPr>
        <p:blipFill>
          <a:blip r:embed="rId1"/>
          <a:stretch/>
        </p:blipFill>
        <p:spPr>
          <a:xfrm>
            <a:off x="0" y="1127160"/>
            <a:ext cx="9144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2" descr="22.png"/>
          <p:cNvPicPr/>
          <p:nvPr/>
        </p:nvPicPr>
        <p:blipFill>
          <a:blip r:embed="rId1"/>
          <a:stretch/>
        </p:blipFill>
        <p:spPr>
          <a:xfrm>
            <a:off x="0" y="4302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2" descr="23.png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24.png"/>
          <p:cNvPicPr/>
          <p:nvPr/>
        </p:nvPicPr>
        <p:blipFill>
          <a:blip r:embed="rId1"/>
          <a:stretch/>
        </p:blipFill>
        <p:spPr>
          <a:xfrm>
            <a:off x="771480" y="371520"/>
            <a:ext cx="760104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2" descr="25.png"/>
          <p:cNvPicPr/>
          <p:nvPr/>
        </p:nvPicPr>
        <p:blipFill>
          <a:blip r:embed="rId1"/>
          <a:stretch/>
        </p:blipFill>
        <p:spPr>
          <a:xfrm>
            <a:off x="152280" y="1057320"/>
            <a:ext cx="88394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批量发布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任务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收货地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如其中那项不填写，“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还是要保留，如任务要求与收货地址不要，格式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宝贝网址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评价要求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追加评价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批量发布刷的宝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提示：给过红包的小号支付宝都要做好登记，只要是这个小号的支付宝购物，都不要真发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审核小号发红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01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02.png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03.png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3" descr="04.png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3" descr="05.png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06.png"/>
          <p:cNvPicPr/>
          <p:nvPr/>
        </p:nvPicPr>
        <p:blipFill>
          <a:blip r:embed="rId1"/>
          <a:stretch/>
        </p:blipFill>
        <p:spPr>
          <a:xfrm>
            <a:off x="1324080" y="95400"/>
            <a:ext cx="6495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29:53Z</dcterms:modified>
  <cp:revision>62</cp:revision>
  <dc:subject/>
  <dc:title>PowerPoint 演示文稿</dc:title>
</cp:coreProperties>
</file>