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B4D2-4DC6-42D2-84D7-89C1AC0A1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5095-8720-4541-8E19-9AFE67CA9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1C7B-2A16-4390-B2F8-03AB6CFF9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E169-30F7-489C-97E2-57C9F2C0E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AEB7-F4A0-4DB0-AD76-A242A2E46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0861-6ACF-435A-8B91-6BE822F92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FE6B-43CB-4470-B2A1-E7E0EB510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B0C4-CA2B-4603-A290-3AA68744D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8766-65AE-4094-84C1-C6FA3E44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92D0-80A2-4980-BE23-6530BC9B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F411-CA1F-45C3-9603-215B4D2D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562C-59EB-450D-8A8F-2A750980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3E94C-673D-4B0B-9B68-1C3A6C01D4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样式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443400" y="2066760"/>
            <a:ext cx="2217600" cy="2116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33520" y="1413000"/>
            <a:ext cx="815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07:34:16Z</dcterms:created>
  <dc:creator>walkinnet</dc:creator>
  <dc:description/>
  <dc:language>en-US</dc:language>
  <cp:lastModifiedBy>walkinnet</cp:lastModifiedBy>
  <dcterms:modified xsi:type="dcterms:W3CDTF">2009-02-17T07:35:15Z</dcterms:modified>
  <cp:revision>2</cp:revision>
  <dc:subject/>
  <dc:title>PPT样式一</dc:title>
</cp:coreProperties>
</file>