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C86-231A-451B-BE3B-EB00BCEC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597-489D-4DD2-9351-6546FB48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1BF-5CA1-496D-8EF6-13B8D9DE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21-4C11-4461-83A2-629D5002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698-5D86-4BF3-8DF2-2236B99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674-9D8E-409F-8303-F479A07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C7B-3410-432D-A295-F375967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D25-37FC-4278-A952-23A40702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126-9E03-431C-842C-F5CC43F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0F4-DEBC-484F-859D-152A26E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EE2-4029-471C-AC56-C1BED36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6D2-22A4-4933-9915-A8F419B3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70C9-8B51-417D-B28C-73CE9A826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425448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4788000"/>
            <a:ext cx="2057400" cy="1547640"/>
          </a:xfrm>
          <a:prstGeom prst="wedgeRoundRectCallout">
            <a:avLst>
              <a:gd name="adj1" fmla="val -107625"/>
              <a:gd name="adj2" fmla="val -3472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每次成功登录后，下次再次登录将会自动记住该用户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admi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为默认管理员帐号，不可以删除，使用该帐号登录后可以添加和管理其他帐号，以及其他帐号所保存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也可以添加管理员帐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26800" y="3049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家庭收支记账软件使用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0804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91440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软件可以直接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运行，初始帐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名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密   码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66"/>
                </a:solidFill>
                <a:latin typeface="微软雅黑"/>
                <a:ea typeface="微软雅黑"/>
              </a:rPr>
              <a:t>XP</a:t>
            </a:r>
            <a:r>
              <a:rPr b="0" lang="zh-CN" sz="1200" spc="-1" strike="noStrike">
                <a:solidFill>
                  <a:srgbClr val="ff0066"/>
                </a:solidFill>
                <a:latin typeface="微软雅黑"/>
                <a:ea typeface="微软雅黑"/>
              </a:rPr>
              <a:t>系统上需要安装 </a:t>
            </a:r>
            <a:r>
              <a:rPr b="0" lang="zh-CN" sz="1200" spc="-1" strike="noStrike">
                <a:solidFill>
                  <a:srgbClr val="ff0066"/>
                </a:solidFill>
                <a:latin typeface="微软雅黑"/>
                <a:ea typeface="微软雅黑"/>
              </a:rPr>
              <a:t>.net framework 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地址如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download.microsoft.com/download/0/6/1/061F001C-8752-4600-A198-53214C69B51F/dotnetfx35setup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33720" y="60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基本信息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4543200" cy="4457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2114640"/>
            <a:ext cx="6094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962520"/>
            <a:ext cx="2057400" cy="824040"/>
          </a:xfrm>
          <a:prstGeom prst="wedgeRoundRectCallout">
            <a:avLst>
              <a:gd name="adj1" fmla="val -78462"/>
              <a:gd name="adj2" fmla="val 177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×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：表示普通用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普通用户只能管理自己的数据，其他用的数据是无法看到和修改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438280"/>
            <a:ext cx="3200400" cy="1366560"/>
          </a:xfrm>
          <a:prstGeom prst="wedgeRoundRectCallout">
            <a:avLst>
              <a:gd name="adj1" fmla="val 77518"/>
              <a:gd name="adj2" fmla="val -5731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首次使用该软件，必须使用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admi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帐号登录后，可以添加其他帐号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作用：如果你想记录一下日用品开支，你可以添加一个帐号管理相关数据，如果你想记录一下小孩教育费用的开支，你也可以再建立一个帐号，管理教育开支的数据，每个账户的数据互不干扰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只有管理员帐号可以管理全部用户的数据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普通用户，此界面不显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4562640" cy="45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33720" y="609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基本信息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949480"/>
            <a:ext cx="3200400" cy="643680"/>
          </a:xfrm>
          <a:prstGeom prst="wedgeRoundRectCallout">
            <a:avLst>
              <a:gd name="adj1" fmla="val 59657"/>
              <a:gd name="adj2" fmla="val -4776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此处输入收支类别，也就是收支对应的【项目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输入好相应的项目信息，然后就可以在【收支明细表】界面，直接选择该【项目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1752480"/>
            <a:ext cx="609840" cy="266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666880"/>
            <a:ext cx="68580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4228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360" y="1714680"/>
            <a:ext cx="609840" cy="190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85280" y="4203720"/>
            <a:ext cx="1600200" cy="462600"/>
          </a:xfrm>
          <a:prstGeom prst="wedgeRoundRectCallout">
            <a:avLst>
              <a:gd name="adj1" fmla="val -22222"/>
              <a:gd name="adj2" fmla="val -10481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收支对应的【项目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直接选择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5040" y="6045120"/>
            <a:ext cx="1479600" cy="474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插入一行或者多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然后进行数据输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040" y="53341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5280" y="6012000"/>
            <a:ext cx="1674720" cy="474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选中一行或者多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然后点击该按钮，插入复制后的数据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43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8360" y="6012000"/>
            <a:ext cx="1674720" cy="474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选中一行或者多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然后点击该按钮，进行删除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4100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6095880"/>
            <a:ext cx="1657440" cy="474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点击保存按钮，保存插入，修改，删除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33412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476400" y="5257800"/>
            <a:ext cx="1600200" cy="462600"/>
          </a:xfrm>
          <a:prstGeom prst="wedgeRoundRectCallout">
            <a:avLst>
              <a:gd name="adj1" fmla="val -29375"/>
              <a:gd name="adj2" fmla="val 113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如何修改数据？直接在表格里面修改即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2920" y="1690560"/>
            <a:ext cx="8839080" cy="3476880"/>
            <a:chOff x="142920" y="1690560"/>
            <a:chExt cx="8839080" cy="347688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162000" y="1690560"/>
              <a:ext cx="8820000" cy="34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142920" y="2009880"/>
              <a:ext cx="4838760" cy="80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124080" y="5105520"/>
            <a:ext cx="107640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57040" y="1676520"/>
            <a:ext cx="8629920" cy="4081320"/>
            <a:chOff x="257040" y="1676520"/>
            <a:chExt cx="8629920" cy="40813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57040" y="2319480"/>
              <a:ext cx="862992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4342680" y="2525760"/>
              <a:ext cx="1523880" cy="462600"/>
            </a:xfrm>
            <a:prstGeom prst="wedgeRoundRectCallout">
              <a:avLst>
                <a:gd name="adj1" fmla="val 10412"/>
                <a:gd name="adj2" fmla="val 16959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需要修改数据，直接在表格里面修改即可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" y="3571920"/>
              <a:ext cx="8001000" cy="3268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3886200"/>
              <a:ext cx="800100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85800" y="4789800"/>
              <a:ext cx="8001000" cy="304920"/>
            </a:xfrm>
            <a:prstGeom prst="rect">
              <a:avLst/>
            </a:prstGeom>
            <a:noFill/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36840" y="2847960"/>
              <a:ext cx="30456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800" y="4267080"/>
              <a:ext cx="8001000" cy="152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86600" y="2617920"/>
              <a:ext cx="1752480" cy="462600"/>
            </a:xfrm>
            <a:prstGeom prst="wedgeRoundRectCallout">
              <a:avLst>
                <a:gd name="adj1" fmla="val 43282"/>
                <a:gd name="adj2" fmla="val 24634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对于插入的空行，或者数据数到一半，不想输入了，想删除，直接点击删除按钮，即可标记为【删除】状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4591080"/>
              <a:ext cx="8001000" cy="19980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266360" y="5068800"/>
              <a:ext cx="1752840" cy="282240"/>
            </a:xfrm>
            <a:prstGeom prst="wedgeRoundRectCallout">
              <a:avLst>
                <a:gd name="adj1" fmla="val 30245"/>
                <a:gd name="adj2" fmla="val -17101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对于相似的数据行，可以点击【复制】按钮，复制一行，或者多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6880" y="1676520"/>
              <a:ext cx="1981080" cy="282240"/>
            </a:xfrm>
            <a:prstGeom prst="wedgeRoundRectCallout">
              <a:avLst>
                <a:gd name="adj1" fmla="val -10828"/>
                <a:gd name="adj2" fmla="val 35076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所有变更的数据，最后必须点击【保存】才能生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84228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4228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248520" cy="3867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67080" y="3200400"/>
            <a:ext cx="1447920" cy="462600"/>
          </a:xfrm>
          <a:prstGeom prst="wedgeRoundRectCallout">
            <a:avLst>
              <a:gd name="adj1" fmla="val -62152"/>
              <a:gd name="adj2" fmla="val -12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选中相应金额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会自动求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457360"/>
            <a:ext cx="1305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86280" y="2971800"/>
            <a:ext cx="99036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06440" y="2076480"/>
            <a:ext cx="8332920" cy="38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4228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581800"/>
            <a:ext cx="40194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4419720"/>
            <a:ext cx="2057400" cy="824040"/>
          </a:xfrm>
          <a:prstGeom prst="wedgeRoundRectCallout">
            <a:avLst>
              <a:gd name="adj1" fmla="val -9046"/>
              <a:gd name="adj2" fmla="val 86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筛选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比如在【摘要】文本框输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奶粉，则显示所有关于奶粉的记录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648320"/>
            <a:ext cx="2210040" cy="824040"/>
          </a:xfrm>
          <a:prstGeom prst="wedgeRoundRectCallout">
            <a:avLst>
              <a:gd name="adj1" fmla="val -30393"/>
              <a:gd name="adj2" fmla="val 619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筛选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选择【收入】项，则显示所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【收支】为收入的记录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4240" y="267660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" y="2629080"/>
            <a:ext cx="266760" cy="247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1600200"/>
            <a:ext cx="1295640" cy="824040"/>
          </a:xfrm>
          <a:prstGeom prst="wedgeRoundRectCallout">
            <a:avLst>
              <a:gd name="adj1" fmla="val -165805"/>
              <a:gd name="adj2" fmla="val 7122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查询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直接点击该图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则查询所有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05440" y="2832120"/>
            <a:ext cx="1457280" cy="462600"/>
          </a:xfrm>
          <a:prstGeom prst="wedgeRoundRectCallout">
            <a:avLst>
              <a:gd name="adj1" fmla="val -272546"/>
              <a:gd name="adj2" fmla="val -58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点按钮右侧▼符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则可以自定义查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0320" y="3657600"/>
            <a:ext cx="26676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4800600"/>
            <a:ext cx="1457280" cy="462600"/>
          </a:xfrm>
          <a:prstGeom prst="wedgeRoundRectCallout">
            <a:avLst>
              <a:gd name="adj1" fmla="val -20268"/>
              <a:gd name="adj2" fmla="val -10131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勾上对应选项，则该选项可用于查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42280" y="60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6720" y="1638360"/>
            <a:ext cx="7810560" cy="358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43400" y="1133640"/>
            <a:ext cx="1828800" cy="462600"/>
          </a:xfrm>
          <a:prstGeom prst="wedgeRoundRectCallout">
            <a:avLst>
              <a:gd name="adj1" fmla="val 27856"/>
              <a:gd name="adj2" fmla="val 229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鼠标双击【备注说明】的表头，则会显示一个文本框，在文本框中输入</a:t>
            </a:r>
            <a:r>
              <a:rPr b="0" lang="zh-CN" sz="1100" spc="-1" strike="noStrike">
                <a:solidFill>
                  <a:srgbClr val="ff0066"/>
                </a:solidFill>
                <a:latin typeface="Arial"/>
                <a:ea typeface="微软雅黑"/>
              </a:rPr>
              <a:t>关键字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，则可以按照输入的关键字搜索备注列所匹配的信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467080"/>
            <a:ext cx="28191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8820360" cy="231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29200" y="5029200"/>
            <a:ext cx="3886200" cy="2379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2"/>
            <a:endCxn id="114" idx="1"/>
          </p:cNvCxnSpPr>
          <p:nvPr/>
        </p:nvCxnSpPr>
        <p:spPr>
          <a:xfrm rot="5400000">
            <a:off x="4773600" y="2950200"/>
            <a:ext cx="2434320" cy="1963080"/>
          </a:xfrm>
          <a:prstGeom prst="curvedConnector5">
            <a:avLst>
              <a:gd name="adj1" fmla="val 47152"/>
              <a:gd name="adj2" fmla="val 55337"/>
              <a:gd name="adj3" fmla="val 47152"/>
            </a:avLst>
          </a:prstGeom>
          <a:ln w="4140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53080" y="5486400"/>
            <a:ext cx="1828800" cy="282240"/>
          </a:xfrm>
          <a:prstGeom prst="wedgeRoundRectCallout">
            <a:avLst>
              <a:gd name="adj1" fmla="val -28393"/>
              <a:gd name="adj2" fmla="val -1033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微软雅黑"/>
              </a:rPr>
              <a:t>自动按照输入的关键字搜索匹配的信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8000" y="609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关于本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83808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57320" y="1938240"/>
            <a:ext cx="52293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qwang</cp:lastModifiedBy>
  <dcterms:modified xsi:type="dcterms:W3CDTF">2013-08-16T05:03:3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