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708-AD1A-4468-A1CB-F327E6B4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D86-C17E-44E3-BA9D-F78B9C3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F1A-A3D2-4324-B979-F66CBF05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0BE-2B22-427A-A8A8-F8BF9D17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090D-4411-4049-B7D5-0FE6D057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406-4C4C-4EAB-BFCD-455EC66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C4FB-320B-485F-955C-6C63467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1CD4-B03C-43F4-8EB7-97ECFA23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A19C-7825-4D88-8AE5-318C912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BE9-9F8E-428D-920C-01E7BA3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64CF-80B3-4942-A379-07D4B70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BD8-F9A6-4163-A638-271D800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4611-09E5-4D99-A0D8-4757F881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67B-4E06-46FF-85D0-14DFAF3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4B7E-0C33-4D68-891A-1314017F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D0C-274D-43FC-9297-82EF047A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854-C5C6-4C0E-9870-B52A8B2A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329C-0BCA-4B96-B6CC-12D1C257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3209-2698-43EE-86E4-91E644C8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63D5-6BB0-4A8D-ADF1-8EDEB80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FEF3-5153-4C43-BB82-58D376A0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6355-09E3-4A0E-BBD2-C6FC858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462-956E-455D-B8DE-86013A9A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0F6F-C029-4BA4-930C-ADEFC24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C036-C7CA-4B00-8C72-F192D7B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61D2-FA7B-421A-8940-238583B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7B40-F278-4F1E-B2C5-BE5314D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4BE0-5F49-467D-9140-56DCFEF4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5D08-46AF-4928-8A2E-F331CC08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4027-77AB-4E79-AF6E-90E79C20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A97-A5C6-4335-A9F7-FB3EEC85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25A-E408-487C-9AB1-8E2B746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8B2-A073-4DE7-B08E-63777E1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A84-D9E4-40D5-AEDC-C184A2D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085-0938-4F9E-8710-04CE84B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1FF-11FF-48EA-9A7F-276E35E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0FC-A4CD-48E8-9861-B7F73CB80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A49C-0E43-41C8-BA78-50A4622CC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CBC3-4B00-428F-A192-0B6D5D1F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全自动眼镜蛇淘宝肉鸡刷信誉销量软件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自动淘宝刷信誉软件简单快捷，全自动刷信誉销量，自己利用软件就可以刷信誉，解决代刷不安全等原因，适合代刷工作室，淘宝卖家。快速安全直达皇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1114195443799674510" descr="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界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8720" y="1628640"/>
            <a:ext cx="7839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购买演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2149560"/>
            <a:ext cx="720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百度淘宝刷信誉排名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刷信誉软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640" y="1854360"/>
            <a:ext cx="763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真实快递单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2720" y="1917720"/>
            <a:ext cx="7561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成功客户展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客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开始刷已经金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28720" y="2492280"/>
            <a:ext cx="74167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客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01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年十月份开始用我们软件已经金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7058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-842760" y="530208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445080" y="2997360"/>
            <a:ext cx="25243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软件和传统代刷的区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我们软件可以快速上皇冠，轻松快捷全自动刷信誉一次设定，下次就不用设定了，软件全自动帮你刷，安全快捷，可以刷多个店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传统代刷和平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刷：代刷的基本是骗子说了帮你刷结果你交了钱就把你拉黑不帮你刷了，好的代刷也是利用我们的软件帮助你刷的，一个皇冠也要收费几千不等，而且只能刷一个店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平台：互刷平台基本是几百个人一直在里面帮你刷，他们是只换小号不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机器码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一样，基本上互刷的最高只能刷到三星，三星以上基本上都会被淘宝降权，应为里面的买手都是重复的，换汤不换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的软件可以做什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软件你可以开一个代刷工作室，或者刷多个店铺，在也不用担心找代刷会被骗了，自己就可以给自己刷信誉，简单安全快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01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安全技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眼镜蛇软件是利用肉鸡刷的，每台肉鸡的独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码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是全球独一的，相当于一台独立的电脑，利用软件购买就和真人购买是一样的，软件还支持收索关键词拍，旺旺聊天拍，真实物流单号软件，可以跟踪物流信息我们目前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万肉鸡，我们每个用户使用的肉鸡都是不同的，我们服务器上的肉鸡一个用户只使用一次，我们每天都在更新肉鸡的，所以请你放心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特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关键词拍：软件可以实现收索关键词拍宝贝（安全真实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旺旺聊天：软件可以实现旺旺聊天功能（真实购买完全一样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真实快递单号：提供真实快递单号可跟踪物流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肉鸡功能：软件自动切换肉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机器码百分百安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间间隔：可以设置间隔时间购买模拟真实交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全自动购买，无须人工操作简单快捷安全快速上皇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简单便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操作简单，会打字就会使用，帮助你轻松上皇冠，用软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天上钻很简单，一月上皇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01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永远不会被淘宝发现肉鸡技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软件技术是利用肉鸡来刷淘宝信誉，肉鸡就是我们控制的别人的电脑，我们用我们的买家小号登陆肉鸡，在肉鸡里面购买你的宝贝连接刷信誉，目前是最安全的，肉鸡连警察都查不到更不要说淘宝了。安全百分百，真实电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机器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淘宝检测最主要的因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淘宝主要是检测您的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和你的机器码以及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如果用网页批量拍，淘宝可以通过安全控件检测到你的机器码，还有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等，很不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　　　眼镜蛇软件在这方面下了很大的功夫，软件会为每个小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切换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独立的机器码和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会在每个号登录前清空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，和换机器码和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在换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方面，也集成了每笔每个号换一次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和机器码的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08:20Z</dcterms:created>
  <dc:creator/>
  <dc:description/>
  <dc:language>en-US</dc:language>
  <cp:lastModifiedBy>imagedemo</cp:lastModifiedBy>
  <cp:lastPrinted>1899-12-30T00:00:00Z</cp:lastPrinted>
  <dcterms:modified xsi:type="dcterms:W3CDTF">2013-06-04T08:49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56</vt:lpwstr>
  </property>
</Properties>
</file>