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%E4%BA%A1%E7%81%B5%E5%BA%8F%E6%9B%B2.wav" ContentType="audio/x-wav"/>
  <Override PartName="/ppt/media/image23.png" ContentType="image/png"/>
  <Override PartName="/ppt/media/image27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B63E-F060-4831-A36A-ACB582C3CE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5F31-C0F7-40EF-BE19-F212D0773A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A7C-19FB-4D79-A9E0-E5AAC9CF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9C8-C645-4FB0-823F-1683E6B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6D39F-9287-46E5-9524-1F9AAAD7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C1A16-E39F-4F23-BE47-AED6E13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76E9C-3BA5-4A9D-804E-43BD4FBB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8E9FF-2BE2-4B52-BF83-235E355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68EA0-CC0E-487D-A1C4-FFEFBC1A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2FC5C-2D70-4E0E-9829-ACF682D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3EBE3-418C-47A5-9B25-A1FFBB4D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FAE9E-5207-491B-8D83-692F65C2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14EAC-848C-4D4C-B6D0-FB81FD8C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92CCE-E947-4A44-BE15-CB900749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46F-1BDD-46A6-9957-76D25F37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03C26-B1D5-4469-92DF-78F46DA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205BF-443E-4E98-B476-F5B62AC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AA3A3-428F-4E61-8164-252AD9FE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0D80-48D8-4B72-BDA1-3E0B44DE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60FE3-9282-4C4C-9AB5-93BE3EF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6F7EB-3643-40F3-925C-3944B78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0F0C2-5315-44EA-86CE-785E38F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47BB5-2B2B-42AC-B738-5540AFB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3ABB6-C882-400C-AFEA-42793F00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AFFCE-CB8C-4C93-868B-DB661D28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BF2-7549-42BB-8BD1-AA65861C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726E-094F-4CBC-9A5C-53FDC836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62C1-032A-41B3-88D7-E90F0D18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22FB8-5D24-44AF-94F7-7F6245D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C21E5-2A2B-4DAC-BF74-188E4B9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59F28-2FFF-40F9-9692-AA44979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E955F-EE43-446B-A59A-A3DF035F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E1945-1C14-4165-84B4-8755AB48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57DD2-C6F7-47FC-B0CE-BED8A87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C099B-0C57-4E5D-9C1F-701B1C8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F8621-EE65-4B97-B3B3-987C07E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0CC3-C379-4642-A94B-2D7C0CDC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B9469-B138-4C24-A620-E0B3FC3F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9C989-667B-4A89-AF2C-E5F180BE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4B4EA-E8F3-4DFD-9514-6210DDC5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3BE07-3A91-43D5-A033-C4FAC9BE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C0DA2-A0B4-4FDF-AEDF-BD40C51F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67264-8169-4CC7-BD44-DB0439BB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D128-542D-4C60-9FB4-5983F3E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2E0B4-A9AE-482F-977A-8FED712D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7ACBA-2206-40C8-B5BB-25FF3555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05CC0-A442-436C-BC0E-E4B079E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E6C8-E094-4757-8211-A7837474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97D7B-EDC6-43D3-AADA-434F342D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050FB-1BFB-41E2-B8E1-409D614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69FB3-70CC-4A6C-905F-8D63584C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9D074-27AF-47A3-9203-4045A177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1347B-E7E7-4D1E-B9C8-00C70007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80FB0-8A96-4325-9F49-D09EA6F7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691C6-6E83-4540-9EC8-AEA290CE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A9BAF-DB9D-4E25-BC18-4CA4F80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F39F3-D1F8-4437-98E7-1746E92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CE72E-7678-4A73-8543-815369A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58E-94CB-4F8A-AC5A-38E616C4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CAD52-AE87-4529-924F-C6FE012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4136B-3F20-414B-99FE-E93466F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3DB35-756B-43C8-8C9E-9C16099A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E0FF8-1AB6-483B-93A9-D914465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57F4E-672F-489A-9105-C7BB80D4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C1E6C-4962-45D2-B09C-0EB464ED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A5F0C-F36B-4F29-ACAF-1D8CE35F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F49F-FEF7-4A9A-9B6E-875FD7B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4B05-8B8A-430E-AA67-55E2DB7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8385-B145-42A0-9E5A-C39288F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D24E-6F78-418D-9275-B5445EB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E1F-E0C7-40BA-870B-0761AAD1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8BEC-66CF-4B74-89A3-91FB7FC6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007A-3738-4D0C-A1FC-654B729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84C6-3261-45E9-BE9F-219E01A7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F2C7-0B47-4F22-8777-76F33A50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DB5F-C6AC-4250-8824-CA8F1C78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7D2B-56CA-4DBD-A17D-CB432B2F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09F2-6924-46B6-85BB-10033AC4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26A8-0772-482D-B6EB-56B288D2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6C03-D2E2-4362-87FA-132697B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2165-F724-45A9-BFB9-E0AF3E3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071-0459-4CC2-874E-94BBDF59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2A743-E84B-4EC4-ABD2-E872837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9CDF-207F-4BFE-9796-CB8D892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55FC-EF94-4016-A8DA-F55A447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F3B3-2182-4B83-95EE-6128351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ECBA-30BE-44FE-9193-8D4208D0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2FC4-633C-4DC5-A032-9F1BFA34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9A39-B48E-4155-9144-02E04462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50A2-F693-49DB-85D4-EA1FCBC0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0573-1778-47DE-AE1E-C4AA6DFC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989A-1493-4E58-BBF5-5765B80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0F2-CDC5-493E-A1B7-D15F32CC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0B44-959F-4ABA-9421-2517EC6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8DA9-A708-4532-84C7-3E1E95A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C1C7-8CB8-467B-B1FC-DFF34AD0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1A22-8BAE-4722-9A34-F708EEC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62D1-582F-4C03-80DB-68203F94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1AE8-217B-4DFA-83C1-41FC659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77AE-E3B5-4663-82AB-08AF91E4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072A-CDF6-418E-9600-B11B6DA0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C1FA-2522-4DBF-B112-92C3E931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A254-0DB9-4B66-8B03-3432E1B1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C9A-5174-40D7-9DBB-429E59D0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B809-A3BE-4DC5-9C1C-65F2C26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D2D7E-5F05-493B-AAE0-279244B4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60AA-131B-46DB-943E-ED327B77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DB48-AA12-4CBA-A138-7CB595A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66EE6-23D4-4FF0-AFA5-39158B08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7D88-FFEB-46BF-B570-F3B342B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B626-1345-41CE-A7E1-AB82DFB9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529D-1FD6-4CE9-9C58-765BF2E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E380E-8FE3-44BF-A169-00D48933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8BB6-C9B9-4B52-BC9F-583D6451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D9C-653E-49FF-9474-36C35D8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9A58-8CAC-4129-BF33-6046CE3E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D9D1-2947-4AA7-B8EA-179417CF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FF556-537D-4EC1-9603-42E3E210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DD4E-E937-452E-ABD0-BF768808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A606-A913-4E6A-AB55-37FBADB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FCEF7-5819-4DD9-AD05-85F014C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78D54-1B16-47DB-91AD-F834F6F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7774-3BA5-4020-86C4-AC91D7B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EC5C-6B18-4013-9538-6079851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2C99-A612-428B-9058-E8518C4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F28-2B44-498B-B12C-406C665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C73E-148F-4912-9CC3-1F9A74E5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5EF2-14EE-474D-A03A-C1BF1F44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12E6-7734-473B-B33B-7B5BCD2B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A2BF-1236-46DB-A814-C5DBA908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F5F6-FE3F-45B9-9D2E-18AD0C2C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FCA6-36BE-4238-B1BE-281908D7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34F5-5EE7-473D-B85C-75DB49D0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CC8E9-BF03-48ED-A3D3-6B3DC149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BD60F-BC2A-4A3B-A35E-9EB3FE38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2AFB-4EAA-4631-A63E-7358A41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2F4-8F6D-4004-8BB5-0EB2800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A530-2368-4F6D-AD42-4D36BC4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9F1B-5042-45A0-AC91-4890FAB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8180-02B4-42F1-BE19-BF0C965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5C4A-FE67-468B-B8E7-35CD6300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4DB01-280B-464C-AEE6-B4058ACF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87C3-BA70-4CE9-A150-52700F06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60273-2CD8-4531-A4AA-098EEEB4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5EF38-DCA8-422F-8ADE-6498949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46D3D-57EE-4947-8B96-A31F1B1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29B16-09E1-49DD-A4D4-97FF75A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B77-AC47-4EEB-B678-E94C543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534D6-7716-4026-9D6F-635DC60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8079E-5E9A-482C-9911-B74688C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941FC-65A1-48D9-B99E-68854333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3C011-FF7B-4B94-AD04-DDB54C3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3ADFF-78A0-4D40-986D-E1087FC0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4885-5F56-4E86-9E24-A2D463C3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69C3-74F9-425A-8658-FAF3787D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FA6EB-F096-4FF1-91A4-C5B5D712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CF902-243F-4920-B5E8-4E92AF80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4D325-C2F3-407F-BB86-FFCC2D90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06A1-8702-448F-A3BF-114EAB7823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F0C-1171-44E5-8705-41D7CE52FE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965-C9FE-4CC1-AC8E-12AACFA5C7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A0E-A282-4A91-A548-6ABC6588849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9BBC-440D-4B54-B793-EF51E6B5DD2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55EF-A778-4A25-ABD3-518B82BE6F2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FEB-81BC-47FA-B652-142B0D8379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345-A225-4B9D-97B8-2B2CF951AAA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F69A-1E6A-466D-BF2B-4ABBFF60DC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ED25-548E-4C90-AB10-D2E53F2F1B5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24A-A4B6-41CB-A43F-F2EC74F0F0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D13-AC2A-4ED8-8113-5DAD777E338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E4A9-F1CA-47AB-865A-40A16AAE8D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83E-AAF1-45E2-8C38-8C04569F827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048-FE2D-4597-A9BA-8F2AB4CECCE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653-7928-417C-A7E6-EC61C0B805E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D9D2-8F61-4629-8139-5EF433EBDC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C5F-7521-40AE-A5C8-0BF3B91B7B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E9FE-3466-4191-9F0E-79C6BEA83F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A1DF-F639-4A53-875B-00B428FF1F8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818E-7C5A-49DB-86F3-75EE55EBF95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8C96-64C6-4671-88E0-BEA2F857EC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D09-1FBE-4719-B7DC-9D9D23E822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61DC-B1B5-4DFD-9BF4-28C1FAD138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6C46-E404-489A-8D3B-8A5556890C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2.xml"/><Relationship Id="rId3" Type="http://schemas.openxmlformats.org/officeDocument/2006/relationships/image" Target="../media/image6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hyperlink" Target="http://www.pptbz.com/" TargetMode="External"/><Relationship Id="rId10" Type="http://schemas.openxmlformats.org/officeDocument/2006/relationships/hyperlink" Target="http://www.pptbz.com/" TargetMode="External"/><Relationship Id="rId11" Type="http://schemas.openxmlformats.org/officeDocument/2006/relationships/hyperlink" Target="http://www.pptbz.com/" TargetMode="External"/><Relationship Id="rId12" Type="http://schemas.openxmlformats.org/officeDocument/2006/relationships/hyperlink" Target="http://www.pptbz.com/pptshucai/" TargetMode="External"/><Relationship Id="rId13" Type="http://schemas.openxmlformats.org/officeDocument/2006/relationships/hyperlink" Target="http://www.pptbz.com/pptshucai/" TargetMode="External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audio" Target="../media/&#20129;&#28789;&#24207;&#26354;.wav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26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3200400" y="13716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  <a:ea typeface="隶书"/>
              </a:rPr>
              <a:t>詹天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6765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义务教育课程标准实验教科书语文六年级（上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5" descr="logo"/>
          <p:cNvPicPr/>
          <p:nvPr/>
        </p:nvPicPr>
        <p:blipFill>
          <a:blip r:embed="rId2"/>
          <a:stretch/>
        </p:blipFill>
        <p:spPr>
          <a:xfrm>
            <a:off x="1692360" y="414360"/>
            <a:ext cx="2200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112"/>
          <p:cNvPicPr/>
          <p:nvPr/>
        </p:nvPicPr>
        <p:blipFill>
          <a:blip r:embed="rId1"/>
          <a:stretch/>
        </p:blipFill>
        <p:spPr>
          <a:xfrm>
            <a:off x="990720" y="1905120"/>
            <a:ext cx="7238880" cy="361944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3"/>
          <p:cNvSpPr/>
          <p:nvPr/>
        </p:nvSpPr>
        <p:spPr>
          <a:xfrm>
            <a:off x="4267080" y="3276720"/>
            <a:ext cx="457200" cy="1981080"/>
          </a:xfrm>
          <a:prstGeom prst="downArrow">
            <a:avLst>
              <a:gd name="adj1" fmla="val 50000"/>
              <a:gd name="adj2" fmla="val 108327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4"/>
          <p:cNvGrpSpPr/>
          <p:nvPr/>
        </p:nvGrpSpPr>
        <p:grpSpPr>
          <a:xfrm>
            <a:off x="1219320" y="4800600"/>
            <a:ext cx="6933600" cy="533520"/>
            <a:chOff x="1219320" y="4800600"/>
            <a:chExt cx="6933600" cy="533520"/>
          </a:xfrm>
        </p:grpSpPr>
        <p:sp>
          <p:nvSpPr>
            <p:cNvPr id="584" name="AutoShape 5"/>
            <p:cNvSpPr/>
            <p:nvPr/>
          </p:nvSpPr>
          <p:spPr>
            <a:xfrm>
              <a:off x="1219320" y="480060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>
              <a:off x="6705360" y="4800600"/>
              <a:ext cx="1447560" cy="533520"/>
            </a:xfrm>
            <a:prstGeom prst="lef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7"/>
          <p:cNvGrpSpPr/>
          <p:nvPr/>
        </p:nvGrpSpPr>
        <p:grpSpPr>
          <a:xfrm>
            <a:off x="2971800" y="4800600"/>
            <a:ext cx="3200400" cy="533520"/>
            <a:chOff x="2971800" y="4800600"/>
            <a:chExt cx="3200400" cy="533520"/>
          </a:xfrm>
        </p:grpSpPr>
        <p:sp>
          <p:nvSpPr>
            <p:cNvPr id="587" name="AutoShape 8"/>
            <p:cNvSpPr/>
            <p:nvPr/>
          </p:nvSpPr>
          <p:spPr>
            <a:xfrm>
              <a:off x="2971800" y="4800600"/>
              <a:ext cx="1295280" cy="533520"/>
            </a:xfrm>
            <a:prstGeom prst="leftArrow">
              <a:avLst>
                <a:gd name="adj1" fmla="val 50000"/>
                <a:gd name="adj2" fmla="val 455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4724280" y="48006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Text Box 10"/>
          <p:cNvSpPr/>
          <p:nvPr/>
        </p:nvSpPr>
        <p:spPr>
          <a:xfrm>
            <a:off x="0" y="1522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八达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350532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部凿井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12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32"/>
          <p:cNvPicPr/>
          <p:nvPr/>
        </p:nvPicPr>
        <p:blipFill>
          <a:blip r:embed="rId1"/>
          <a:stretch/>
        </p:blipFill>
        <p:spPr>
          <a:xfrm>
            <a:off x="1522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112"/>
          <p:cNvPicPr/>
          <p:nvPr/>
        </p:nvPicPr>
        <p:blipFill>
          <a:blip r:embed="rId2"/>
          <a:stretch/>
        </p:blipFill>
        <p:spPr>
          <a:xfrm>
            <a:off x="39625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"/>
          <p:cNvSpPr/>
          <p:nvPr/>
        </p:nvSpPr>
        <p:spPr>
          <a:xfrm>
            <a:off x="121932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6"/>
          <p:cNvGrpSpPr/>
          <p:nvPr/>
        </p:nvGrpSpPr>
        <p:grpSpPr>
          <a:xfrm>
            <a:off x="685800" y="5257800"/>
            <a:ext cx="2285640" cy="457200"/>
            <a:chOff x="685800" y="5257800"/>
            <a:chExt cx="2285640" cy="457200"/>
          </a:xfrm>
        </p:grpSpPr>
        <p:sp>
          <p:nvSpPr>
            <p:cNvPr id="597" name="AutoShape 7"/>
            <p:cNvSpPr/>
            <p:nvPr/>
          </p:nvSpPr>
          <p:spPr>
            <a:xfrm>
              <a:off x="685800" y="5257800"/>
              <a:ext cx="1027440" cy="457200"/>
            </a:xfrm>
            <a:prstGeom prst="rightArrow">
              <a:avLst>
                <a:gd name="adj1" fmla="val 50000"/>
                <a:gd name="adj2" fmla="val 5618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AutoShape 8"/>
            <p:cNvSpPr/>
            <p:nvPr/>
          </p:nvSpPr>
          <p:spPr>
            <a:xfrm>
              <a:off x="1955160" y="5257800"/>
              <a:ext cx="1016280" cy="457200"/>
            </a:xfrm>
            <a:prstGeom prst="leftArrow">
              <a:avLst>
                <a:gd name="adj1" fmla="val 50000"/>
                <a:gd name="adj2" fmla="val 5557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9"/>
          <p:cNvGrpSpPr/>
          <p:nvPr/>
        </p:nvGrpSpPr>
        <p:grpSpPr>
          <a:xfrm>
            <a:off x="5410080" y="5257800"/>
            <a:ext cx="2285640" cy="457200"/>
            <a:chOff x="5410080" y="5257800"/>
            <a:chExt cx="2285640" cy="457200"/>
          </a:xfrm>
        </p:grpSpPr>
        <p:sp>
          <p:nvSpPr>
            <p:cNvPr id="600" name="AutoShape 10"/>
            <p:cNvSpPr/>
            <p:nvPr/>
          </p:nvSpPr>
          <p:spPr>
            <a:xfrm>
              <a:off x="5410080" y="5257800"/>
              <a:ext cx="925200" cy="457200"/>
            </a:xfrm>
            <a:prstGeom prst="leftArrow">
              <a:avLst>
                <a:gd name="adj1" fmla="val 50000"/>
                <a:gd name="adj2" fmla="val 3794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AutoShape 11"/>
            <p:cNvSpPr/>
            <p:nvPr/>
          </p:nvSpPr>
          <p:spPr>
            <a:xfrm>
              <a:off x="6661800" y="5257800"/>
              <a:ext cx="1033920" cy="457200"/>
            </a:xfrm>
            <a:prstGeom prst="rightArrow">
              <a:avLst>
                <a:gd name="adj1" fmla="val 50000"/>
                <a:gd name="adj2" fmla="val 5653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AutoShape 12"/>
          <p:cNvSpPr/>
          <p:nvPr/>
        </p:nvSpPr>
        <p:spPr>
          <a:xfrm>
            <a:off x="6324480" y="403848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Group 13"/>
          <p:cNvGrpSpPr/>
          <p:nvPr/>
        </p:nvGrpSpPr>
        <p:grpSpPr>
          <a:xfrm>
            <a:off x="4191120" y="5257800"/>
            <a:ext cx="4800240" cy="457200"/>
            <a:chOff x="4191120" y="5257800"/>
            <a:chExt cx="4800240" cy="457200"/>
          </a:xfrm>
        </p:grpSpPr>
        <p:sp>
          <p:nvSpPr>
            <p:cNvPr id="604" name="AutoShape 14"/>
            <p:cNvSpPr/>
            <p:nvPr/>
          </p:nvSpPr>
          <p:spPr>
            <a:xfrm>
              <a:off x="4191120" y="5257800"/>
              <a:ext cx="1002240" cy="457200"/>
            </a:xfrm>
            <a:prstGeom prst="rightArrow">
              <a:avLst>
                <a:gd name="adj1" fmla="val 50000"/>
                <a:gd name="adj2" fmla="val 5480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AutoShape 15"/>
            <p:cNvSpPr/>
            <p:nvPr/>
          </p:nvSpPr>
          <p:spPr>
            <a:xfrm>
              <a:off x="7989120" y="5257800"/>
              <a:ext cx="1002240" cy="457200"/>
            </a:xfrm>
            <a:prstGeom prst="leftArrow">
              <a:avLst>
                <a:gd name="adj1" fmla="val 50000"/>
                <a:gd name="adj2" fmla="val 5480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6"/>
          <p:cNvSpPr/>
          <p:nvPr/>
        </p:nvSpPr>
        <p:spPr>
          <a:xfrm>
            <a:off x="586728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部凿井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2286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8">
            <a:hlinkClick r:id="rId3" action="ppaction://hlinksldjump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26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2362320" y="6094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铁路经过青龙桥附近，坡度特别大。火车怎么才能爬上这样的坡度呢？詹天佑顺着山势，设计一种“人”字形线路。北上的列车到了南口就用两个火车头，一个在前面拉，一个在后面推。过青龙桥，列车向东北前进，过了“人”字形线路的岔道口就倒过来，原先推的火车头拉，原先拉的火车头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2362320" y="609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经过青龙桥附近，坡度特别大。火车怎么才能爬上这样的坡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038480" y="6400800"/>
            <a:ext cx="1981440" cy="30492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222" h="21600">
                <a:moveTo>
                  <a:pt x="0" y="0"/>
                </a:moveTo>
                <a:lnTo>
                  <a:pt x="140222" y="0"/>
                </a:lnTo>
                <a:lnTo>
                  <a:pt x="140222" y="21600"/>
                </a:lnTo>
                <a:lnTo>
                  <a:pt x="0" y="21600"/>
                </a:lnTo>
                <a:close/>
              </a:path>
              <a:path fill="lightenLess" w="140222" h="21600">
                <a:moveTo>
                  <a:pt x="0" y="0"/>
                </a:moveTo>
                <a:lnTo>
                  <a:pt x="140222" y="0"/>
                </a:lnTo>
                <a:lnTo>
                  <a:pt x="138822" y="1400"/>
                </a:lnTo>
                <a:lnTo>
                  <a:pt x="1400" y="1400"/>
                </a:lnTo>
                <a:close/>
              </a:path>
              <a:path fill="darken" w="140222" h="21600">
                <a:moveTo>
                  <a:pt x="140222" y="0"/>
                </a:moveTo>
                <a:lnTo>
                  <a:pt x="140222" y="21600"/>
                </a:lnTo>
                <a:lnTo>
                  <a:pt x="138822" y="20200"/>
                </a:lnTo>
                <a:lnTo>
                  <a:pt x="138822" y="1400"/>
                </a:lnTo>
                <a:close/>
              </a:path>
              <a:path fill="darkenLess" w="140222" h="21600">
                <a:moveTo>
                  <a:pt x="140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22" y="20200"/>
                </a:lnTo>
                <a:close/>
              </a:path>
              <a:path fill="lighten" w="140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3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qing"/>
          <p:cNvPicPr/>
          <p:nvPr/>
        </p:nvPicPr>
        <p:blipFill>
          <a:blip r:embed="rId1"/>
          <a:stretch/>
        </p:blipFill>
        <p:spPr>
          <a:xfrm>
            <a:off x="1228680" y="990720"/>
            <a:ext cx="7915320" cy="53719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4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5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6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10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4" action="ppaction://hlinksldjump"/>
          </p:cNvPr>
          <p:cNvSpPr/>
          <p:nvPr/>
        </p:nvSpPr>
        <p:spPr>
          <a:xfrm>
            <a:off x="6553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幻灯片1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520056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/>
          <p:cNvSpPr/>
          <p:nvPr/>
        </p:nvSpPr>
        <p:spPr>
          <a:xfrm>
            <a:off x="1447920" y="5683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北上的列车到了南口就用两个火车头，一个在前面拉，一个在后面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3581280" y="457200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733920" y="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0" y="17524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8610480" y="167652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幻灯片2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3"/>
          <p:cNvSpPr/>
          <p:nvPr/>
        </p:nvSpPr>
        <p:spPr>
          <a:xfrm>
            <a:off x="9907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青龙桥，列车向东北前进，过了“人”字形线路的岔道口就倒过来，原先推的火车头拉，原先拉的火车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3352680" y="403848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3352680" y="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0" y="167652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8534520" y="19810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8">
            <a:hlinkClick r:id="rId2" action="ppaction://hlinksldjump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"/>
          <p:cNvGrpSpPr/>
          <p:nvPr/>
        </p:nvGrpSpPr>
        <p:grpSpPr>
          <a:xfrm>
            <a:off x="0" y="0"/>
            <a:ext cx="4266720" cy="2971440"/>
            <a:chOff x="0" y="0"/>
            <a:chExt cx="4266720" cy="2971440"/>
          </a:xfrm>
        </p:grpSpPr>
        <p:pic>
          <p:nvPicPr>
            <p:cNvPr id="645" name="Picture 3" descr="25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26672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4"/>
            <p:cNvSpPr/>
            <p:nvPr/>
          </p:nvSpPr>
          <p:spPr>
            <a:xfrm>
              <a:off x="3623760" y="412560"/>
              <a:ext cx="546120" cy="23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詹 天 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Text Box 5"/>
          <p:cNvSpPr/>
          <p:nvPr/>
        </p:nvSpPr>
        <p:spPr>
          <a:xfrm>
            <a:off x="304920" y="36417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304920" y="36417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:\Documents and Settings\Owner\桌面\zty\u=254915866,4072581043&amp;gp=3.jpg"/>
          <p:cNvPicPr/>
          <p:nvPr/>
        </p:nvPicPr>
        <p:blipFill>
          <a:blip r:embed="rId2"/>
          <a:stretch/>
        </p:blipFill>
        <p:spPr>
          <a:xfrm>
            <a:off x="152280" y="228600"/>
            <a:ext cx="2793960" cy="3733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C:\Documents and Settings\Owner\桌面\zty\u=403138075,2151639510&amp;gp=1.jpg"/>
          <p:cNvPicPr/>
          <p:nvPr/>
        </p:nvPicPr>
        <p:blipFill>
          <a:blip r:embed="rId3"/>
          <a:stretch/>
        </p:blipFill>
        <p:spPr>
          <a:xfrm>
            <a:off x="304920" y="5029200"/>
            <a:ext cx="1323720" cy="7905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C:\Documents and Settings\Owner\桌面\zty\u=2225457421,4145717746&amp;gp=0.jpg"/>
          <p:cNvPicPr/>
          <p:nvPr/>
        </p:nvPicPr>
        <p:blipFill>
          <a:blip r:embed="rId4"/>
          <a:stretch/>
        </p:blipFill>
        <p:spPr>
          <a:xfrm>
            <a:off x="4343400" y="380880"/>
            <a:ext cx="3657600" cy="24559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1905120" y="4495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赞叹不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1905120" y="44956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叹不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C:\Documents and Settings\Owner\桌面\zty\u=150172689,2668382441&amp;gp=3.jpg"/>
          <p:cNvPicPr/>
          <p:nvPr/>
        </p:nvPicPr>
        <p:blipFill>
          <a:blip r:embed="rId2"/>
          <a:stretch/>
        </p:blipFill>
        <p:spPr>
          <a:xfrm>
            <a:off x="304920" y="533520"/>
            <a:ext cx="2367000" cy="35049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3"/>
          <p:cNvSpPr/>
          <p:nvPr/>
        </p:nvSpPr>
        <p:spPr>
          <a:xfrm>
            <a:off x="3048120" y="1295280"/>
            <a:ext cx="5638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4"/>
          <p:cNvGrpSpPr/>
          <p:nvPr/>
        </p:nvGrpSpPr>
        <p:grpSpPr>
          <a:xfrm>
            <a:off x="228600" y="4586400"/>
            <a:ext cx="8381880" cy="1358640"/>
            <a:chOff x="228600" y="4586400"/>
            <a:chExt cx="8381880" cy="1358640"/>
          </a:xfrm>
        </p:grpSpPr>
        <p:sp>
          <p:nvSpPr>
            <p:cNvPr id="657" name="Text Box 5"/>
            <p:cNvSpPr/>
            <p:nvPr/>
          </p:nvSpPr>
          <p:spPr>
            <a:xfrm>
              <a:off x="228600" y="458640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真是一位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杰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工程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6"/>
            <p:cNvSpPr/>
            <p:nvPr/>
          </p:nvSpPr>
          <p:spPr>
            <a:xfrm>
              <a:off x="228600" y="542448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的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爱国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精神令人敬佩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8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295280" y="396252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杰出的爱国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295280" y="396252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C:\Documents and Settings\Owner\桌面\zty\u=3528467050,1897907581&amp;gp=1.jpg"/>
          <p:cNvPicPr/>
          <p:nvPr/>
        </p:nvPicPr>
        <p:blipFill>
          <a:blip r:embed="rId2"/>
          <a:stretch/>
        </p:blipFill>
        <p:spPr>
          <a:xfrm>
            <a:off x="609480" y="152280"/>
            <a:ext cx="302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8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8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2819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仿照本文布局谋篇的方法练习写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WW_019"/>
          <p:cNvPicPr/>
          <p:nvPr/>
        </p:nvPicPr>
        <p:blipFill>
          <a:blip r:embed="rId2"/>
          <a:stretch/>
        </p:blipFill>
        <p:spPr>
          <a:xfrm>
            <a:off x="7924680" y="6019920"/>
            <a:ext cx="1067040" cy="679320"/>
          </a:xfrm>
          <a:prstGeom prst="rect">
            <a:avLst/>
          </a:prstGeom>
          <a:ln w="0">
            <a:noFill/>
          </a:ln>
        </p:spPr>
      </p:pic>
      <p:grpSp>
        <p:nvGrpSpPr>
          <p:cNvPr id="661" name="Group 4"/>
          <p:cNvGrpSpPr/>
          <p:nvPr/>
        </p:nvGrpSpPr>
        <p:grpSpPr>
          <a:xfrm>
            <a:off x="762120" y="533520"/>
            <a:ext cx="2743200" cy="1752480"/>
            <a:chOff x="762120" y="533520"/>
            <a:chExt cx="2743200" cy="1752480"/>
          </a:xfrm>
        </p:grpSpPr>
        <p:pic>
          <p:nvPicPr>
            <p:cNvPr id="662" name="Picture 5" descr="WW_059"/>
            <p:cNvPicPr/>
            <p:nvPr/>
          </p:nvPicPr>
          <p:blipFill>
            <a:blip r:embed="rId3"/>
            <a:stretch/>
          </p:blipFill>
          <p:spPr>
            <a:xfrm>
              <a:off x="762120" y="706680"/>
              <a:ext cx="190512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 Box 6"/>
            <p:cNvSpPr/>
            <p:nvPr/>
          </p:nvSpPr>
          <p:spPr>
            <a:xfrm>
              <a:off x="1524240" y="53352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练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7"/>
          <p:cNvGrpSpPr/>
          <p:nvPr/>
        </p:nvGrpSpPr>
        <p:grpSpPr>
          <a:xfrm>
            <a:off x="609480" y="4084560"/>
            <a:ext cx="7696080" cy="1630440"/>
            <a:chOff x="609480" y="4084560"/>
            <a:chExt cx="7696080" cy="1630440"/>
          </a:xfrm>
        </p:grpSpPr>
        <p:sp>
          <p:nvSpPr>
            <p:cNvPr id="665" name="Text Box 8"/>
            <p:cNvSpPr/>
            <p:nvPr/>
          </p:nvSpPr>
          <p:spPr>
            <a:xfrm>
              <a:off x="2666880" y="502920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课外收集我国铁路建设方面的新成就，与同学们交流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Group 9"/>
            <p:cNvGrpSpPr/>
            <p:nvPr/>
          </p:nvGrpSpPr>
          <p:grpSpPr>
            <a:xfrm>
              <a:off x="609480" y="4084560"/>
              <a:ext cx="2133720" cy="1630440"/>
              <a:chOff x="609480" y="4084560"/>
              <a:chExt cx="2133720" cy="1630440"/>
            </a:xfrm>
          </p:grpSpPr>
          <p:pic>
            <p:nvPicPr>
              <p:cNvPr id="667" name="Picture 10" descr="OT_0058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84560"/>
                <a:ext cx="175248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Text Box 11"/>
              <p:cNvSpPr/>
              <p:nvPr/>
            </p:nvSpPr>
            <p:spPr>
              <a:xfrm>
                <a:off x="990360" y="4647960"/>
                <a:ext cx="1752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小实践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Group 12"/>
          <p:cNvGrpSpPr/>
          <p:nvPr/>
        </p:nvGrpSpPr>
        <p:grpSpPr>
          <a:xfrm>
            <a:off x="2743200" y="3048120"/>
            <a:ext cx="5791320" cy="1676160"/>
            <a:chOff x="2743200" y="3048120"/>
            <a:chExt cx="5791320" cy="1676160"/>
          </a:xfrm>
        </p:grpSpPr>
        <p:sp>
          <p:nvSpPr>
            <p:cNvPr id="670" name="Text Box 13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我的同学李进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是个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勤学好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4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>
              <a:off x="3200400" y="38098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304812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>
              <a:off x="304812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8"/>
          <p:cNvGrpSpPr/>
          <p:nvPr/>
        </p:nvGrpSpPr>
        <p:grpSpPr>
          <a:xfrm>
            <a:off x="2743200" y="3048120"/>
            <a:ext cx="5791320" cy="1676160"/>
            <a:chOff x="2743200" y="3048120"/>
            <a:chExt cx="5791320" cy="1676160"/>
          </a:xfrm>
        </p:grpSpPr>
        <p:sp>
          <p:nvSpPr>
            <p:cNvPr id="676" name="Text Box 19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我的同学李进是个勤学好问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0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1"/>
            <p:cNvSpPr/>
            <p:nvPr/>
          </p:nvSpPr>
          <p:spPr>
            <a:xfrm>
              <a:off x="3200400" y="38098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2"/>
            <p:cNvSpPr/>
            <p:nvPr/>
          </p:nvSpPr>
          <p:spPr>
            <a:xfrm>
              <a:off x="304812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304812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BF89-5C0A-4CDB-9F12-506F13FB54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图片 1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683" name="Line 7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33"/>
          <p:cNvSpPr/>
          <p:nvPr/>
        </p:nvSpPr>
        <p:spPr>
          <a:xfrm>
            <a:off x="-20520" y="1257480"/>
            <a:ext cx="91389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36"/>
          <p:cNvSpPr/>
          <p:nvPr/>
        </p:nvSpPr>
        <p:spPr>
          <a:xfrm>
            <a:off x="0" y="59562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43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35" descr="热气球"/>
          <p:cNvPicPr/>
          <p:nvPr/>
        </p:nvPicPr>
        <p:blipFill>
          <a:blip r:embed="rId2"/>
          <a:stretch/>
        </p:blipFill>
        <p:spPr>
          <a:xfrm>
            <a:off x="7164360" y="361800"/>
            <a:ext cx="1428840" cy="19875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8"/>
          <p:cNvSpPr/>
          <p:nvPr/>
        </p:nvSpPr>
        <p:spPr>
          <a:xfrm>
            <a:off x="2987640" y="54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宝藏致力于优秀的</a:t>
            </a:r>
            <a:r>
              <a:rPr b="1" i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i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图片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130320"/>
            <a:ext cx="2982960" cy="99504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8" descr="07.png"/>
          <p:cNvPicPr/>
          <p:nvPr/>
        </p:nvPicPr>
        <p:blipFill>
          <a:blip r:embed="rId5"/>
          <a:stretch/>
        </p:blipFill>
        <p:spPr>
          <a:xfrm>
            <a:off x="1893960" y="0"/>
            <a:ext cx="984240" cy="9777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9" descr="美女跳舞2"/>
          <p:cNvPicPr/>
          <p:nvPr/>
        </p:nvPicPr>
        <p:blipFill>
          <a:blip r:embed="rId6"/>
          <a:stretch/>
        </p:blipFill>
        <p:spPr>
          <a:xfrm>
            <a:off x="179280" y="1341360"/>
            <a:ext cx="2297160" cy="52484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0" descr="绿风车棍子"/>
          <p:cNvPicPr/>
          <p:nvPr/>
        </p:nvPicPr>
        <p:blipFill>
          <a:blip r:embed="rId7"/>
          <a:stretch/>
        </p:blipFill>
        <p:spPr>
          <a:xfrm>
            <a:off x="8461440" y="4219560"/>
            <a:ext cx="71280" cy="165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59" descr="绿风车"/>
          <p:cNvPicPr/>
          <p:nvPr/>
        </p:nvPicPr>
        <p:blipFill>
          <a:blip r:embed="rId8"/>
          <a:stretch/>
        </p:blipFill>
        <p:spPr>
          <a:xfrm>
            <a:off x="7850160" y="3722760"/>
            <a:ext cx="1217520" cy="1220760"/>
          </a:xfrm>
          <a:prstGeom prst="rect">
            <a:avLst/>
          </a:prstGeom>
          <a:ln w="0">
            <a:noFill/>
          </a:ln>
        </p:spPr>
      </p:pic>
      <p:sp>
        <p:nvSpPr>
          <p:cNvPr id="694" name="TextBox 4"/>
          <p:cNvSpPr/>
          <p:nvPr/>
        </p:nvSpPr>
        <p:spPr>
          <a:xfrm>
            <a:off x="2627280" y="2476440"/>
            <a:ext cx="53294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模板下载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pptbz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素材下载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pptsh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背景图片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pptpic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课件下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ptbz.com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图片 55" descr=""/>
          <p:cNvPicPr/>
          <p:nvPr/>
        </p:nvPicPr>
        <p:blipFill>
          <a:blip r:embed="rId14"/>
          <a:stretch/>
        </p:blipFill>
        <p:spPr>
          <a:xfrm rot="2305200">
            <a:off x="2293560" y="23702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56" descr=""/>
          <p:cNvPicPr/>
          <p:nvPr/>
        </p:nvPicPr>
        <p:blipFill>
          <a:blip r:embed="rId15"/>
          <a:stretch/>
        </p:blipFill>
        <p:spPr>
          <a:xfrm rot="2305200">
            <a:off x="2293560" y="295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57" descr=""/>
          <p:cNvPicPr/>
          <p:nvPr/>
        </p:nvPicPr>
        <p:blipFill>
          <a:blip r:embed="rId16"/>
          <a:stretch/>
        </p:blipFill>
        <p:spPr>
          <a:xfrm rot="2305200">
            <a:off x="2293560" y="352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58" descr=""/>
          <p:cNvPicPr/>
          <p:nvPr/>
        </p:nvPicPr>
        <p:blipFill>
          <a:blip r:embed="rId17"/>
          <a:stretch/>
        </p:blipFill>
        <p:spPr>
          <a:xfrm rot="2305200">
            <a:off x="2293560" y="41054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9" name="TextBox 22"/>
          <p:cNvSpPr/>
          <p:nvPr/>
        </p:nvSpPr>
        <p:spPr>
          <a:xfrm>
            <a:off x="2471400" y="61657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下载请点击：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宝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-www.pptbz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 repeatCount="indefinite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9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26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057400" y="68580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詹天佑不怕困难，也不怕嘲笑，毅然接受了任务，马上开始勘测线路。哪里要开山，哪里要架桥，哪里要把陡坡铲平，哪里要把弯度改小，都要经过勘测，进行周密计算。詹天佑经常勉励工作人员说：“我们的工作首先要精密，不能有一点儿马虎。‘大概’、‘差不多’，这类说法不应该出自工程人员之口。”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遇到困难，他总是想：这是中国人修筑的第一条铁路，一定要把它修好；否则，不但惹外国人讥笑，还会使中国的工程师失掉信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05740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詹天佑不怕困难，也不怕嘲笑，毅然接受了任务，马上开始勘测线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>
            <a:hlinkClick r:id="rId2" action="ppaction://hlinksldjump"/>
          </p:cNvPr>
          <p:cNvSpPr/>
          <p:nvPr/>
        </p:nvSpPr>
        <p:spPr>
          <a:xfrm>
            <a:off x="3657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6">
            <a:hlinkClick r:id="rId3" action="ppaction://hlinksldjump"/>
          </p:cNvPr>
          <p:cNvSpPr/>
          <p:nvPr/>
        </p:nvSpPr>
        <p:spPr>
          <a:xfrm>
            <a:off x="4495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7">
            <a:hlinkClick r:id="rId4" action="ppaction://hlinksldjump"/>
          </p:cNvPr>
          <p:cNvSpPr/>
          <p:nvPr/>
        </p:nvSpPr>
        <p:spPr>
          <a:xfrm>
            <a:off x="54864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8">
            <a:hlinkClick r:id="rId5" action="ppaction://hlinksldjump"/>
          </p:cNvPr>
          <p:cNvSpPr/>
          <p:nvPr/>
        </p:nvSpPr>
        <p:spPr>
          <a:xfrm>
            <a:off x="8381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609480" y="2743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詹天佑经常勉励工作人员说：“我们的工作首先要精密，不能有一点儿马虎。‘大概’、‘差不多’，这类说法不应该出自工程人员之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C:\Documents and Settings\Owner\桌面\zty\u=1540039497,1644485357&amp;gp=3.jpg"/>
          <p:cNvPicPr/>
          <p:nvPr/>
        </p:nvPicPr>
        <p:blipFill>
          <a:blip r:embed="rId1"/>
          <a:stretch/>
        </p:blipFill>
        <p:spPr>
          <a:xfrm>
            <a:off x="0" y="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838080" y="2133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3" descr="C:\Documents and Settings\Owner\桌面\zty\u=1540039497,1644485357&amp;gp=3.jpg"/>
          <p:cNvPicPr/>
          <p:nvPr/>
        </p:nvPicPr>
        <p:blipFill>
          <a:blip r:embed="rId1"/>
          <a:stretch/>
        </p:blipFill>
        <p:spPr>
          <a:xfrm>
            <a:off x="0" y="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609480" y="3124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困难，他总是想：这是中国人修筑的第一条铁路，一定要把它修好；否则，不但惹外国人讥笑，还会使中国的工程师失掉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3" descr="C:\Documents and Settings\Owner\桌面\zty\u=1540039497,1644485357&amp;gp=3.jpg"/>
          <p:cNvPicPr/>
          <p:nvPr/>
        </p:nvPicPr>
        <p:blipFill>
          <a:blip r:embed="rId1"/>
          <a:stretch/>
        </p:blipFill>
        <p:spPr>
          <a:xfrm>
            <a:off x="0" y="0"/>
            <a:ext cx="1596960" cy="2133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26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2209680" y="533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铁路要经过很多高山，就不得不开凿隧道，其中数居庸关隧道和八达岭两个隧道的工程最艰巨。居庸关山势高，岩层厚，詹天佑决定采用从两端同时向中间凿进的办法。山顶的泉水往下渗，隧道里满是泥浆。工地上没有抽水机，詹天佑就带头挑着水桶去排水。他常常跟工人们同吃同住，不离开工地。八达岭隧道长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10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多米，有居庸关隧道的三倍长。他跟老工人一起商量，决定采用中部凿井法。先从山顶往下打一口竖井，再分别向两头开凿，两头也同时施工，把工期缩短一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2209680" y="5335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铁路要经过很多高山，就不得不开凿隧道，其中数</a:t>
            </a:r>
            <a:r>
              <a:rPr b="1" lang="zh-CN" sz="2400" spc="-1" strike="noStrike" u="sng">
                <a:solidFill>
                  <a:srgbClr val="ff9933"/>
                </a:solidFill>
                <a:uFillTx/>
                <a:latin typeface="Times New Roman"/>
              </a:rPr>
              <a:t>居庸关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隧道和</a:t>
            </a:r>
            <a:r>
              <a:rPr b="1" lang="zh-CN" sz="2400" spc="-1" strike="noStrike" u="sng">
                <a:solidFill>
                  <a:srgbClr val="ff9933"/>
                </a:solidFill>
                <a:uFillTx/>
                <a:latin typeface="Times New Roman"/>
              </a:rPr>
              <a:t>八达岭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两个隧道的工程最艰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5">
            <a:hlinkClick r:id="rId2" action="ppaction://hlinksldjump"/>
          </p:cNvPr>
          <p:cNvSpPr/>
          <p:nvPr/>
        </p:nvSpPr>
        <p:spPr>
          <a:xfrm>
            <a:off x="7086600" y="64771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32"/>
          <p:cNvPicPr/>
          <p:nvPr/>
        </p:nvPicPr>
        <p:blipFill>
          <a:blip r:embed="rId1"/>
          <a:stretch/>
        </p:blipFill>
        <p:spPr>
          <a:xfrm>
            <a:off x="3808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112"/>
          <p:cNvPicPr/>
          <p:nvPr/>
        </p:nvPicPr>
        <p:blipFill>
          <a:blip r:embed="rId2"/>
          <a:stretch/>
        </p:blipFill>
        <p:spPr>
          <a:xfrm>
            <a:off x="35053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4"/>
          <p:cNvSpPr/>
          <p:nvPr/>
        </p:nvSpPr>
        <p:spPr>
          <a:xfrm>
            <a:off x="15238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6">
            <a:hlinkClick r:id="rId3" action="ppaction://hlinksldjump"/>
          </p:cNvPr>
          <p:cNvSpPr/>
          <p:nvPr/>
        </p:nvSpPr>
        <p:spPr>
          <a:xfrm>
            <a:off x="4038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7">
            <a:hlinkClick r:id="rId4" action="ppaction://hlinksldjump"/>
          </p:cNvPr>
          <p:cNvSpPr/>
          <p:nvPr/>
        </p:nvSpPr>
        <p:spPr>
          <a:xfrm>
            <a:off x="5181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8">
            <a:hlinkClick r:id="rId5" action="ppaction://hlinksldjump"/>
          </p:cNvPr>
          <p:cNvSpPr/>
          <p:nvPr/>
        </p:nvSpPr>
        <p:spPr>
          <a:xfrm>
            <a:off x="6400800" y="64008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2971800" y="5334120"/>
            <a:ext cx="3351960" cy="485640"/>
            <a:chOff x="2971800" y="5334120"/>
            <a:chExt cx="3351960" cy="485640"/>
          </a:xfrm>
        </p:grpSpPr>
        <p:sp>
          <p:nvSpPr>
            <p:cNvPr id="575" name="AutoShape 3"/>
            <p:cNvSpPr/>
            <p:nvPr/>
          </p:nvSpPr>
          <p:spPr>
            <a:xfrm>
              <a:off x="2971800" y="5334120"/>
              <a:ext cx="1506960" cy="485640"/>
            </a:xfrm>
            <a:prstGeom prst="rightArrow">
              <a:avLst>
                <a:gd name="adj1" fmla="val 50000"/>
                <a:gd name="adj2" fmla="val 77576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4"/>
            <p:cNvSpPr/>
            <p:nvPr/>
          </p:nvSpPr>
          <p:spPr>
            <a:xfrm>
              <a:off x="4833360" y="5334120"/>
              <a:ext cx="1490400" cy="485640"/>
            </a:xfrm>
            <a:prstGeom prst="leftArrow">
              <a:avLst>
                <a:gd name="adj1" fmla="val 50000"/>
                <a:gd name="adj2" fmla="val 7672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7" name="Picture 5" descr="32"/>
          <p:cNvPicPr/>
          <p:nvPr/>
        </p:nvPicPr>
        <p:blipFill>
          <a:blip r:embed="rId1"/>
          <a:stretch/>
        </p:blipFill>
        <p:spPr>
          <a:xfrm>
            <a:off x="2133720" y="1828800"/>
            <a:ext cx="4733640" cy="432432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居庸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3276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8" descr="hudi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2:22:06Z</dcterms:created>
  <dc:creator>www.pptbz.com</dc:creator>
  <dc:description/>
  <dc:language>en-US</dc:language>
  <cp:lastModifiedBy>微软用户</cp:lastModifiedBy>
  <cp:lastPrinted>1899-12-30T00:00:00Z</cp:lastPrinted>
  <dcterms:modified xsi:type="dcterms:W3CDTF">2014-12-29T08:51:2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